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6.jpeg" ContentType="image/jpeg"/>
  <Override PartName="/ppt/media/image74.jpeg" ContentType="image/jpeg"/>
  <Override PartName="/ppt/media/image70.jpeg" ContentType="image/jpeg"/>
  <Override PartName="/ppt/media/image99.jpeg" ContentType="image/jpeg"/>
  <Override PartName="/ppt/media/image80.jpeg" ContentType="image/jpeg"/>
  <Override PartName="/ppt/media/image100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6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75.jpeg" ContentType="image/jpeg"/>
  <Override PartName="/ppt/media/image101.jpeg" ContentType="image/jpeg"/>
  <Override PartName="/ppt/media/image81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2.png" ContentType="image/png"/>
  <Override PartName="/ppt/media/image95.png" ContentType="image/png"/>
  <Override PartName="/ppt/media/image24.jpeg" ContentType="image/jpeg"/>
  <Override PartName="/ppt/media/image103.jpeg" ContentType="image/jpeg"/>
  <Override PartName="/ppt/media/image8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C776-0115-4F34-A72C-FE48D710FB52}" type="datetime">
              <a:rPr b="0" lang="en-US" sz="1200" spc="-1" strike="noStrike">
                <a:solidFill>
                  <a:srgbClr val="000000"/>
                </a:solidFill>
                <a:latin typeface="Arial Blac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CD11-5E0A-4846-A922-6CACD7280B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8D29-A4D6-4F30-8869-D508AB84F78D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0B8-A336-4FE9-9A1F-7F262E80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7E5-302E-40F0-90DF-8958B4EE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638-33A8-4EAB-A030-0A3EAA27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41B-D08E-4FEB-85B0-59CF060F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CD11-E36D-4D3A-BF5D-161EA909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33FA-23E3-4C2F-8117-84AF4DA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CA86-B78C-447B-ADF6-50D831B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31C1-D4F1-4846-93B9-7CB7677E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57C-CA7F-4BF7-BD76-8158FE70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5CB-5B05-4206-9D79-F1934E2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F19E-E70C-4C96-A3E9-BA55D01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0BE-9CE3-4A30-B13A-26AF9872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B052-33BC-4972-97CF-1B38673A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054-E52B-4AC8-8524-611952E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0B21-B6F2-4F1E-A440-F912B41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FAB6-9599-4C89-B67C-81215587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20E3-B3D5-435D-A327-4B91619D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FF4-DCC1-4912-A316-E0FDB762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5E4-A105-493C-8916-9556EB79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454-A8A1-402A-96B7-BF3B13F4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8B1-663C-446E-993D-E674FA8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0E6-5E39-49C9-AD5B-7361D898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201-E84B-44DB-90C9-87E6C74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DA6-C5D3-4414-A794-E3AF279B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13F8-BE4F-4752-9B59-9D0F9AF5AA7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6320"/>
                    <a:ext cx="3039840" cy="2529360"/>
                    <a:chOff x="5787360" y="2146320"/>
                    <a:chExt cx="303984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0600"/>
                      <a:ext cx="120096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040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1400"/>
                    <a:ext cx="2557080" cy="2742480"/>
                    <a:chOff x="2646720" y="2471400"/>
                    <a:chExt cx="255708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080" y="4293720"/>
                      <a:ext cx="11412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55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5560"/>
                    <a:ext cx="2937240" cy="1001160"/>
                    <a:chOff x="2167560" y="209556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15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040"/>
                    <a:ext cx="2658240" cy="448560"/>
                    <a:chOff x="2403720" y="2030040"/>
                    <a:chExt cx="265824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5680"/>
                      <a:ext cx="1730880" cy="27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9560"/>
                    <a:ext cx="2364120" cy="787320"/>
                    <a:chOff x="2760480" y="15195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12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600"/>
                    <a:ext cx="2323080" cy="1082520"/>
                    <a:chOff x="2887920" y="1236600"/>
                    <a:chExt cx="232308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6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8000"/>
                    <a:ext cx="2169720" cy="1508400"/>
                    <a:chOff x="3161520" y="82800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07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2040"/>
                    <a:chOff x="3437640" y="434160"/>
                    <a:chExt cx="1987200" cy="18320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40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8320"/>
                    <a:ext cx="1463040" cy="1891080"/>
                    <a:chOff x="4026960" y="328320"/>
                    <a:chExt cx="1463040" cy="18910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108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89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240"/>
                    <a:ext cx="2318760" cy="1114560"/>
                    <a:chOff x="5661720" y="948240"/>
                    <a:chExt cx="2318760" cy="111456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3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376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7160" y="268200"/>
                    <a:ext cx="1192680" cy="1899360"/>
                    <a:chOff x="5357160" y="268200"/>
                    <a:chExt cx="1192680" cy="18993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8600" y="1415160"/>
                      <a:ext cx="13089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3760"/>
                    <a:ext cx="1889280" cy="1796400"/>
                    <a:chOff x="5351040" y="383760"/>
                    <a:chExt cx="188928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960" y="1383120"/>
                      <a:ext cx="142596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032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5680"/>
                    <a:chOff x="5459040" y="290520"/>
                    <a:chExt cx="42516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3240"/>
                      <a:ext cx="11768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8880"/>
                    <a:ext cx="1481400" cy="3001320"/>
                    <a:chOff x="3790800" y="2648880"/>
                    <a:chExt cx="1481400" cy="30013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40160"/>
                      <a:ext cx="19677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88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7480"/>
                    <a:ext cx="876600" cy="2931480"/>
                    <a:chOff x="4507560" y="2697480"/>
                    <a:chExt cx="876600" cy="293148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5160"/>
                      <a:ext cx="18907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672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3800"/>
                    <a:ext cx="1756440" cy="3029040"/>
                    <a:chOff x="5646960" y="2593800"/>
                    <a:chExt cx="1756440" cy="30290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5880"/>
                      <a:ext cx="203436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36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8640"/>
                    <a:ext cx="1228680" cy="2988360"/>
                    <a:chOff x="5576400" y="2708640"/>
                    <a:chExt cx="1228680" cy="29883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0240"/>
                      <a:ext cx="19728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088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440"/>
                    <a:ext cx="696600" cy="2783160"/>
                    <a:chOff x="5521320" y="2836440"/>
                    <a:chExt cx="696600" cy="27831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600"/>
                      <a:ext cx="18133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40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2600" y="2884320"/>
                    <a:ext cx="665640" cy="2717640"/>
                    <a:chOff x="4962600" y="288432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2640"/>
                      <a:ext cx="17744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440" y="4927320"/>
                      <a:ext cx="951120" cy="365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932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3440"/>
                    <a:ext cx="940680" cy="284364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5760"/>
                <a:ext cx="46980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2080"/>
                <a:ext cx="123804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84CB-BF30-4820-A020-E71FC1AD840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ookerkids.com/Coloring/halloween/images/boo_ghost.gif&amp;imgrefurl=http://www.kookerkids.com/Coloring/halloween/boo.htm&amp;usg=__vzc0NABawYdREZ849wZ7fJOX8yk=&amp;h=600&amp;w=600&amp;sz=11&amp;hl=en&amp;start=3&amp;tbnid=vz3z3Y160E0Q1M:&amp;tbnh=135&amp;tbnw=135&amp;prev=/images?q=boo&amp;gbv=2&amp;hl=en" TargetMode="External"/><Relationship Id="rId2" Type="http://schemas.openxmlformats.org/officeDocument/2006/relationships/image" Target="../media/image96.jpeg"/><Relationship Id="rId3" Type="http://schemas.openxmlformats.org/officeDocument/2006/relationships/hyperlink" Target="http://images.google.com/imgres?imgurl=http://www.srgc.org.uk/bulblog/log2005/010605/Highland%2520coo.jpg&amp;imgrefurl=http://www.srgc.org.uk/bulblog/log2005/010605/log.html&amp;usg=__J0mK3ei0VPUzX1CQCBjItitLhUM=&amp;h=400&amp;w=549&amp;sz=72&amp;hl=en&amp;start=6&amp;tbnid=iA7z6NKCOEeQIM:&amp;tbnh=97&amp;tbnw=133&amp;prev=/images?q=coo&amp;gbv=2&amp;hl=en" TargetMode="External"/><Relationship Id="rId4" Type="http://schemas.openxmlformats.org/officeDocument/2006/relationships/image" Target="../media/image97.jpeg"/><Relationship Id="rId5" Type="http://schemas.openxmlformats.org/officeDocument/2006/relationships/hyperlink" Target="http://images.google.com/imgres?imgurl=http://www.ibiblio.org/jimmy/folkden/php/images/The_Coo_Coo.jpg&amp;imgrefurl=http://www.ibiblio.org/jimmy/folkden-wp/?cat=10&amp;usg=__6NDCUa3GEexVaq8uNg1OZzPopcE=&amp;h=450&amp;w=338&amp;sz=38&amp;hl=en&amp;start=9&amp;tbnid=nJ3msH2hW2ld5M:&amp;tbnh=127&amp;tbnw=95&amp;prev=/images?q=coo&amp;gbv=2&amp;hl=en" TargetMode="External"/><Relationship Id="rId6" Type="http://schemas.openxmlformats.org/officeDocument/2006/relationships/image" Target="../media/image98.jpeg"/><Relationship Id="rId7" Type="http://schemas.openxmlformats.org/officeDocument/2006/relationships/hyperlink" Target="http://images.google.com/imgres?imgurl=http://www.glasgowsciencecentre.org/cmsimages/crazy%2520goo%25203_1293_1294.jpg&amp;imgrefurl=http://www.glasgowsciencecentre.org/sciencebitescrazygoo.aspx&amp;usg=__4LsObmJigboVcD8eNFOHenQCt0c=&amp;h=300&amp;w=400&amp;sz=116&amp;hl=en&amp;start=27&amp;tbnid=UEHmE_5MonfraM:&amp;tbnh=93&amp;tbnw=124&amp;prev=/images?q=goo&amp;gbv=2&amp;ndsp=18&amp;hl=en&amp;sa=N&amp;start=18" TargetMode="External"/><Relationship Id="rId8" Type="http://schemas.openxmlformats.org/officeDocument/2006/relationships/image" Target="../media/image99.jpeg"/><Relationship Id="rId9" Type="http://schemas.openxmlformats.org/officeDocument/2006/relationships/hyperlink" Target="http://images.google.com/imgres?imgurl=http://farblog.files.wordpress.com/2009/07/moo.jpg&amp;imgrefurl=http://farblog.wordpress.com/&amp;usg=__bz6Cv6fgpnqVBwziIuMLAa-Dlk0=&amp;h=296&amp;w=400&amp;sz=24&amp;hl=en&amp;start=2&amp;tbnid=ZvvQfcxQWDYj4M:&amp;tbnh=92&amp;tbnw=124&amp;prev=/images?q=moo&amp;gbv=2&amp;hl=en" TargetMode="External"/><Relationship Id="rId10" Type="http://schemas.openxmlformats.org/officeDocument/2006/relationships/image" Target="../media/image100.jpeg"/><Relationship Id="rId11" Type="http://schemas.openxmlformats.org/officeDocument/2006/relationships/hyperlink" Target="http://images.google.com/imgres?imgurl=http://www.shoo.org/Pics/Logo-Home.jpg&amp;imgrefurl=http://www.shoo.org/&amp;usg=__69kcoTYjcT3HaELaWyeo3AgUmtk=&amp;h=316&amp;w=400&amp;sz=26&amp;hl=en&amp;start=3&amp;tbnid=CI-G_eCmMuJdNM:&amp;tbnh=98&amp;tbnw=124&amp;prev=/images?q=shoo&amp;gbv=2&amp;hl=en" TargetMode="External"/><Relationship Id="rId12" Type="http://schemas.openxmlformats.org/officeDocument/2006/relationships/image" Target="../media/image101.jpeg"/><Relationship Id="rId13" Type="http://schemas.openxmlformats.org/officeDocument/2006/relationships/hyperlink" Target="http://images.google.com/imgres?imgurl=http://manoloshoeblog.com/images/shoo.jpg&amp;imgrefurl=http://shoeblogs.com/2005/01/&amp;usg=__ic5_ycp34llrcw0fp571jgWO9as=&amp;h=300&amp;w=293&amp;sz=11&amp;hl=en&amp;start=5&amp;tbnid=tGwLa6JUefplqM:&amp;tbnh=116&amp;tbnw=113&amp;prev=/images?q=shoo&amp;gbv=2&amp;ndsp=18&amp;hl=en&amp;sa=N" TargetMode="External"/><Relationship Id="rId14" Type="http://schemas.openxmlformats.org/officeDocument/2006/relationships/image" Target="../media/image102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zmodo.com/assets/resources/2008/01/cookies_porn.jpg&amp;imgrefurl=http://gizmodo.com/342373/ces-cookie-lady-says-press-people-are-an-unusually-polite-bunch&amp;usg=__VDmtDNIsNX_XYVO7zVhZ0c0COz8=&amp;h=638&amp;w=800&amp;sz=98&amp;hl=en&amp;start=3&amp;tbnid=KqJ95C6NPPJEOM:&amp;tbnh=114&amp;tbnw=143&amp;prev=/images?q=cookie+batch&amp;gbv=2&amp;ndsp=18&amp;hl=en&amp;sa=N" TargetMode="External"/><Relationship Id="rId2" Type="http://schemas.openxmlformats.org/officeDocument/2006/relationships/image" Target="../media/image103.jpeg"/><Relationship Id="rId3" Type="http://schemas.openxmlformats.org/officeDocument/2006/relationships/hyperlink" Target="http://images.google.com/imgres?imgurl=http://www.rnnonline.org/photos/uncategorized/2007/09/23/dutton_football_catch.jpg&amp;imgrefurl=http://www.duttoncc.org/sports_news/index.html&amp;usg=__JQAwl8NbFqetSxyd7IOppZJl8Gc=&amp;h=777&amp;w=599&amp;sz=147&amp;hl=en&amp;start=3&amp;tbnid=si2H7-KfxWgTNM:&amp;tbnh=142&amp;tbnw=109&amp;prev=/images?q=catch&amp;gbv=2&amp;hl=en" TargetMode="External"/><Relationship Id="rId4" Type="http://schemas.openxmlformats.org/officeDocument/2006/relationships/image" Target="../media/image104.jpeg"/><Relationship Id="rId5" Type="http://schemas.openxmlformats.org/officeDocument/2006/relationships/hyperlink" Target="http://images.google.com/imgres?imgurl=http://www.ftkltd.com/Pictures/Bow%2520Hatch%252003.jpg&amp;imgrefurl=http://www.ftkltd.com/R%2520Bow.htm&amp;usg=__cyxg-RntE3mpydiMx_H-fYwkXHM=&amp;h=1024&amp;w=1280&amp;sz=258&amp;hl=en&amp;start=6&amp;tbnid=6S4cUW2Te7viVM:&amp;tbnh=120&amp;tbnw=150&amp;prev=/images?q=hatch&amp;gbv=2&amp;hl=en" TargetMode="External"/><Relationship Id="rId6" Type="http://schemas.openxmlformats.org/officeDocument/2006/relationships/image" Target="../media/image105.jpeg"/><Relationship Id="rId7" Type="http://schemas.openxmlformats.org/officeDocument/2006/relationships/hyperlink" Target="http://images.google.com/imgres?imgurl=http://www.feathersite.com/Poultry/PPGraphics/LtSusHatch3.JPEG&amp;imgrefurl=http://www.feathersite.com/Poultry/BRKIncubation.html&amp;usg=__x9W9ruuQJds146yPVlOV_BIBIkk=&amp;h=300&amp;w=295&amp;sz=28&amp;hl=en&amp;start=7&amp;tbnid=AOHmzeu1gwOPmM:&amp;tbnh=116&amp;tbnw=114&amp;prev=/images?q=chicken+hatching&amp;gbv=2&amp;ndsp=18&amp;hl=en&amp;sa=N" TargetMode="External"/><Relationship Id="rId8" Type="http://schemas.openxmlformats.org/officeDocument/2006/relationships/image" Target="../media/image106.jpeg"/><Relationship Id="rId9" Type="http://schemas.openxmlformats.org/officeDocument/2006/relationships/hyperlink" Target="http://images.google.com/imgres?imgurl=http://media-cdn.tripadvisor.com/media/photo-s/01/14/1a/39/faulty-door-latch-on.jpg&amp;imgrefurl=http://www.tripadvisor.com/LocationPhotos-g39617-Madisonville_Kentucky.html&amp;usg=__VgEyGawWRAecrZJAk5FoZtn8BVo=&amp;h=412&amp;w=550&amp;sz=24&amp;hl=en&amp;start=5&amp;tbnid=lvVTU5_0QR4aTM:&amp;tbnh=100&amp;tbnw=133&amp;prev=/images?q=door+latch&amp;gbv=2&amp;hl=en" TargetMode="External"/><Relationship Id="rId10" Type="http://schemas.openxmlformats.org/officeDocument/2006/relationships/image" Target="../media/image107.jpeg"/><Relationship Id="rId11" Type="http://schemas.openxmlformats.org/officeDocument/2006/relationships/image" Target="../media/image108.jpeg"/><Relationship Id="rId12" Type="http://schemas.openxmlformats.org/officeDocument/2006/relationships/image" Target="../media/image109.jpeg"/><Relationship Id="rId13" Type="http://schemas.openxmlformats.org/officeDocument/2006/relationships/image" Target="../media/image110.jpeg"/><Relationship Id="rId14" Type="http://schemas.openxmlformats.org/officeDocument/2006/relationships/image" Target="../media/image111.jpeg"/><Relationship Id="rId15" Type="http://schemas.openxmlformats.org/officeDocument/2006/relationships/image" Target="../media/image112.jpeg"/><Relationship Id="rId16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Firefighter!.htm" TargetMode="External"/><Relationship Id="rId2" Type="http://schemas.openxmlformats.org/officeDocument/2006/relationships/hyperlink" Target="http://www.scottsboro.org/~flewis/SF%20Reading%20Street/spellmaster/Firefighter!/jigword2.html" TargetMode="External"/><Relationship Id="rId3" Type="http://schemas.openxmlformats.org/officeDocument/2006/relationships/hyperlink" Target="http://www.scottsboro.org/~flewis/SF%20Reading%20Street/spellmaster/Firefighter!/matchword2.html" TargetMode="External"/><Relationship Id="rId4" Type="http://schemas.openxmlformats.org/officeDocument/2006/relationships/hyperlink" Target="http://www.scottsboro.org/~flewis/SF%20Reading%20Street/spellmaster/Firefighter!/speedword2.html" TargetMode="External"/><Relationship Id="rId5" Type="http://schemas.openxmlformats.org/officeDocument/2006/relationships/hyperlink" Target="http://www.scottsboro.org/~flewis/SF%20Reading%20Street/spellmaster/Firefighter!/wordsearch2.html" TargetMode="External"/><Relationship Id="rId6" Type="http://schemas.openxmlformats.org/officeDocument/2006/relationships/hyperlink" Target="http://www.scottsboro.org/~flewis/SF%20Reading%20Street/spellmaster/Firefighter!/wordweb.html" TargetMode="External"/><Relationship Id="rId7" Type="http://schemas.openxmlformats.org/officeDocument/2006/relationships/hyperlink" Target="http://www.spellingcity.com/index.php?option=com_spellcity&amp;task=viewList&amp;listId=825613" TargetMode="External"/><Relationship Id="rId8" Type="http://schemas.openxmlformats.org/officeDocument/2006/relationships/hyperlink" Target="http://www.spellingcity.com/index.php?option=com_spellcity&amp;task=viewList&amp;listId=825615" TargetMode="External"/><Relationship Id="rId9" Type="http://schemas.openxmlformats.org/officeDocument/2006/relationships/hyperlink" Target="http://www.scottsboro.org/~flewis/SF%20Reading%20Street/spellmaster/Firefighter!%20Spelling%20Words/speedword2.html" TargetMode="External"/><Relationship Id="rId10" Type="http://schemas.openxmlformats.org/officeDocument/2006/relationships/hyperlink" Target="http://www.scottsboro.org/~flewis/SF%20Reading%20Street/spellmaster/Firefighter!%20Spelling%20Words/wordweb.html" TargetMode="External"/><Relationship Id="rId11" Type="http://schemas.openxmlformats.org/officeDocument/2006/relationships/hyperlink" Target="http://www.quia.com/jw/161504.html" TargetMode="External"/><Relationship Id="rId12" Type="http://schemas.openxmlformats.org/officeDocument/2006/relationships/hyperlink" Target="http://www.spellingcity.com/index.php?option=com_spellcity&amp;Itemid=122&amp;task=viewList&amp;listId=354276" TargetMode="External"/><Relationship Id="rId13" Type="http://schemas.openxmlformats.org/officeDocument/2006/relationships/hyperlink" Target="http://www.spellingcity.com/index.php?option=com_spellcity&amp;task=viewList&amp;listId=825616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hj.k12.in.us/teachers/klesko/tiger%2520web/cub.jpg&amp;imgrefurl=http://www.nhj.k12.in.us/teachers/klesko/tiger%2520web/White%2520Tiger.htm&amp;usg=__LgLaEE5uW_vLuDH5dhJnHXHHHwM=&amp;h=507&amp;w=427&amp;sz=38&amp;hl=en&amp;start=2&amp;tbnid=8nt6zlsXu5ppOM:&amp;tbnh=131&amp;tbnw=110&amp;prev=/images?q=cub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windowsnetworking.com/img/gifbasic/hub2sped.gif&amp;imgrefurl=http://www.windowsnetworking.com/articles_tutorials/autoslct.html&amp;usg=__JF76NmfDieRL1U2OGl2KXC8t5Qg=&amp;h=338&amp;w=558&amp;sz=9&amp;hl=en&amp;start=1&amp;tbnid=XxUk-KuDA07SIM:&amp;tbnh=81&amp;tbnw=133&amp;prev=/images?q=hub&amp;gbv=2&amp;hl=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jakesctp.com/images/WAGON%2520WHEELS/WOODEN%2520WAGON%2520WHEEL.jpg&amp;imgrefurl=http://www.jakesctp.com/WOODEN%2520WAGON%2520WHEELS.htm&amp;usg=__rDvVxRUBpM87FHAIMpuR5RxfoSk=&amp;h=512&amp;w=667&amp;sz=133&amp;hl=en&amp;start=6&amp;tbnid=zyCuGF61a8tVRM:&amp;tbnh=106&amp;tbnw=138&amp;prev=/images?q=wagon+wheel&amp;gbv=2&amp;hl=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trl.com/images/photos/PaintSolventRub.jpg&amp;imgrefurl=http://www.trl.com/services/materialstesting/paint_solvent.html&amp;usg=__lfIYP6jTdRLGuwwAD5_cN1lRyR4=&amp;h=300&amp;w=400&amp;sz=9&amp;hl=en&amp;start=48&amp;tbnid=CtOAjYoC_RD8TM:&amp;tbnh=93&amp;tbnw=124&amp;prev=/images?q=rub&amp;gbv=2&amp;ndsp=18&amp;hl=en&amp;sa=N&amp;start=36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blimpie.com/assets/images/menu/prod_sub.jpg&amp;imgrefurl=http://www.blimpie.com/menu/menu.html&amp;usg=__FZBxFeGGEIJZDFYXJZgIilAMf_I=&amp;h=349&amp;w=483&amp;sz=42&amp;hl=en&amp;start=2&amp;tbnid=DSiUhvlTFep0FM:&amp;tbnh=93&amp;tbnw=129&amp;prev=/images?q=sub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blogs.knoxnews.com/knx/eder/VirgIllus.jpeg&amp;imgrefurl=http://blogs.knoxnews.com/knx/eder/2007/12/new_submarine_money_has_nuke_f.html&amp;usg=___dzGtapgkjzVKyrjy_o1Me0Y62Y=&amp;h=1260&amp;w=2100&amp;sz=219&amp;hl=en&amp;start=8&amp;tbnid=H54OC9czpfZiUM:&amp;tbnh=90&amp;tbnw=150&amp;prev=/images?q=submarine&amp;gbv=2&amp;hl=en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www.taxidermy4cash.com/chub.jpg&amp;imgrefurl=http://www.taxidermy4cash.com/Fish.html&amp;usg=__OZxlGcqiurLVzFzToW2q1ahtAvY=&amp;h=306&amp;w=640&amp;sz=61&amp;hl=en&amp;start=33&amp;tbnid=Vue-VvfRgOqeiM:&amp;tbnh=66&amp;tbnw=137&amp;prev=/images?q=chub&amp;gbv=2&amp;ndsp=18&amp;hl=en&amp;sa=N&amp;start=18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s.google.com/imgres?imgurl=http://www.amaranthlionsclub.com/lionlogo4c.gif&amp;imgrefurl=http://www.amaranthlionsclub.com/&amp;usg=__HeE12jiyqJRxFP_2UGnFoB3fXGE=&amp;h=468&amp;w=501&amp;sz=88&amp;hl=en&amp;start=99&amp;tbnid=FdLE57kVaF4BfM:&amp;tbnh=121&amp;tbnw=130&amp;prev=/images?q=club&amp;gbv=2&amp;ndsp=18&amp;hl=en&amp;sa=N&amp;start=90" TargetMode="External"/><Relationship Id="rId16" Type="http://schemas.openxmlformats.org/officeDocument/2006/relationships/image" Target="../media/image10.jpeg"/><Relationship Id="rId17" Type="http://schemas.openxmlformats.org/officeDocument/2006/relationships/hyperlink" Target="http://images.google.com/imgres?imgurl=http://www.nicerreflection.com/sitebuilder/images/bunch_golf_clubs-568x495.jpg&amp;imgrefurl=http://hotgolfplayer.blogspot.com/2009/10/golf-club.html&amp;usg=__HLVtI8CuT6VNndzlnJiMf-4Cc3s=&amp;h=495&amp;w=568&amp;sz=39&amp;hl=en&amp;start=67&amp;tbnid=AFeHZST521p5kM:&amp;tbnh=117&amp;tbnw=134&amp;prev=/images?q=golf+clubs&amp;gbv=2&amp;ndsp=18&amp;hl=en&amp;sa=N&amp;start=54" TargetMode="External"/><Relationship Id="rId18" Type="http://schemas.openxmlformats.org/officeDocument/2006/relationships/image" Target="../media/image11.jpeg"/><Relationship Id="rId19" Type="http://schemas.openxmlformats.org/officeDocument/2006/relationships/hyperlink" Target="http://images.google.com/imgres?imgurl=http://www.ent.iastate.edu/images/coleoptera/scarabaeidae/white_grub_larva.jpg&amp;imgrefurl=http://www.ent.iastate.edu/imagegal/coleoptera/scarabaeidae/white_grub_larva.html&amp;usg=__CJ3Z-5E9jgjntmwhz9oRlDiHrf8=&amp;h=393&amp;w=432&amp;sz=29&amp;hl=en&amp;start=4&amp;tbnid=MpGDJyuc_69khM:&amp;tbnh=115&amp;tbnw=126&amp;prev=/images?q=grub&amp;gbv=2&amp;hl=en" TargetMode="External"/><Relationship Id="rId20" Type="http://schemas.openxmlformats.org/officeDocument/2006/relationships/image" Target="../media/image12.jpeg"/><Relationship Id="rId21" Type="http://schemas.openxmlformats.org/officeDocument/2006/relationships/hyperlink" Target="http://images.google.com/imgres?imgurl=http://www.supercoolpets.com/pictures/scrub%2520a%2520dub%2520dog%2520tub.jpg&amp;imgrefurl=http://www.supercoolpets.com/archives/2007/03/scrubadub_dog_tub_1.php&amp;usg=__F9Ale4IBO2g5bKd9NP9ENnlSiOI=&amp;h=300&amp;w=310&amp;sz=25&amp;hl=en&amp;start=15&amp;tbnid=Byn9ZT-DZMqgBM:&amp;tbnh=113&amp;tbnw=117&amp;prev=/images?q=scrub&amp;gbv=2&amp;hl=en" TargetMode="External"/><Relationship Id="rId22" Type="http://schemas.openxmlformats.org/officeDocument/2006/relationships/image" Target="../media/image13.jpeg"/><Relationship Id="rId23" Type="http://schemas.openxmlformats.org/officeDocument/2006/relationships/hyperlink" Target="http://images.google.com/imgres?imgurl=http://www.das.hre.iowa.gov/benefits/benefit_images/cigarette%2520stub.jpg&amp;imgrefurl=http://www.das.hre.iowa.gov/wellness/stop_smoking.html&amp;usg=__L241t8OX3L444a52-PmOsmUowCM=&amp;h=423&amp;w=284&amp;sz=83&amp;hl=en&amp;start=165&amp;tbnid=YrZK1QQnicqkjM:&amp;tbnh=126&amp;tbnw=85&amp;prev=/images?q=stub&amp;gbv=2&amp;ndsp=18&amp;hl=en&amp;sa=N&amp;start=162" TargetMode="External"/><Relationship Id="rId24" Type="http://schemas.openxmlformats.org/officeDocument/2006/relationships/image" Target="../media/image14.jpeg"/><Relationship Id="rId25" Type="http://schemas.openxmlformats.org/officeDocument/2006/relationships/hyperlink" Target="http://images.google.com/imgres?imgurl=http://www.hospitalmanagement.net/contractor_images/first-choice/1-scrubs.jpg&amp;imgrefurl=http://www.hospitalmanagement.net/contractors/clothing/first-choice/first-choice1.html&amp;usg=__cGqdtjvxiWuWKOzvFfUFSPEWVIY=&amp;h=361&amp;w=480&amp;sz=55&amp;hl=en&amp;start=80&amp;tbnid=anoNG2GZw0vEsM:&amp;tbnh=97&amp;tbnw=129&amp;prev=/images?q=scrub&amp;gbv=2&amp;ndsp=18&amp;hl=en&amp;sa=N&amp;start=72" TargetMode="External"/><Relationship Id="rId26" Type="http://schemas.openxmlformats.org/officeDocument/2006/relationships/image" Target="../media/image15.jpeg"/><Relationship Id="rId2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p4office.com/product/brother-2920-fax.gif&amp;imgrefurl=http://www.top4office.com/fax-machines/&amp;usg=__CQtPAMXN0ttdbbYyheQANysgfks=&amp;h=400&amp;w=400&amp;sz=58&amp;hl=en&amp;start=31&amp;tbnid=ou3I0v7YZO7xCM:&amp;tbnh=124&amp;tbnw=124&amp;prev=/images?q=fax&amp;gbv=2&amp;ndsp=18&amp;hl=en&amp;sa=N&amp;start=18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jayeaston.com/galleries/sax_family/Quartet_by_Sax.jpg&amp;imgrefurl=http://www.jayeaston.com/galleries/sax_family/sax_history/adolphesax%2520history.html&amp;usg=__4ke_ywxOPwMmJMcV2vrnpnuaLHs=&amp;h=381&amp;w=400&amp;sz=111&amp;hl=en&amp;start=32&amp;tbnid=vPlnlH3aZ0XA8M:&amp;tbnh=118&amp;tbnw=124&amp;prev=/images?q=sax&amp;gbv=2&amp;ndsp=18&amp;hl=en&amp;sa=N&amp;start=18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classactfabrics.com/newsletters/Alverna%2520L,%2520flax%2520stems,%2520line,%2520thread.jpg&amp;imgrefurl=http://www.classactfabrics.com/newsletters/Stray%2520Fabric%2520Writing%25201.htm&amp;usg=__0rUuI7RgjE76UlKEx3R0mZ3iMkM=&amp;h=835&amp;w=1303&amp;sz=589&amp;hl=en&amp;start=3&amp;tbnid=_ylvlsRLXawIWM:&amp;tbnh=96&amp;tbnw=150&amp;prev=/images?q=flax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thenourishinggourmet.com/wp-content/uploads/2009/03/ng_flax.jpg&amp;imgrefurl=http://www.thenourishinggourmet.com/2009/03/flax-seed-and-oil-phytoestrogens-phytic-acid-and-pregnancy-risks.html&amp;usg=__8Fqhhs0f-O1dOdFSOtnJFtBYoEY=&amp;h=362&amp;w=545&amp;sz=100&amp;hl=en&amp;start=90&amp;tbnid=zpYS3KuKxoCwQM:&amp;tbnh=88&amp;tbnw=133&amp;prev=/images?q=flax&amp;gbv=2&amp;ndsp=18&amp;hl=en&amp;sa=N&amp;start=72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i21.ebayimg.com/02/i/06/ac/a1/19_10.JPG&amp;imgrefurl=http://www.protopage.com/summerguy7&amp;usg=__FYsTZcxmga6ncQvO3XeKNQzlsOg=&amp;h=576&amp;w=768&amp;sz=99&amp;hl=en&amp;start=96&amp;tbnid=DcCTwLcsXNN0_M:&amp;tbnh=107&amp;tbnw=142&amp;prev=/images?q=saxaphone&amp;gbv=2&amp;ndsp=18&amp;hl=en&amp;sa=N&amp;start=90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4/43/C-band_Radar-dish_Antenna.jpg&amp;imgrefurl=http://commons.wikimedia.org/wiki/File:C-band_Radar-dish_Antenna.jpg&amp;usg=__p32hON2qYCBXFPsQf4JAUcsGvQo=&amp;h=3000&amp;w=1993&amp;sz=390&amp;hl=en&amp;start=12&amp;tbnid=-oK4b37a2abkkM:&amp;tbnh=150&amp;tbnw=100&amp;prev=/images?q=dish&amp;gbv=2&amp;hl=e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laaudiofile.com/images/vip222_dish.jpg&amp;imgrefurl=http://www.laaudiofile.com/vip722.html&amp;usg=__d-hOoPr3c7g8ARMlm4-iqvUQXs0=&amp;h=300&amp;w=400&amp;sz=49&amp;hl=en&amp;start=71&amp;tbnid=6bZLKIPZ_8_fiM:&amp;tbnh=93&amp;tbnw=124&amp;prev=/images?q=dish&amp;gbv=2&amp;ndsp=18&amp;hl=en&amp;sa=N&amp;start=54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farscapeweekly.com/weblog/uploaded_images/xmas_dishes-748768.jpg&amp;imgrefurl=http://www.farscapeweekly.com/weblog/archive/2006_04_01_archive.html&amp;usg=__SIX204ktWHcUNCh1pu11D5YmibE=&amp;h=450&amp;w=450&amp;sz=43&amp;hl=en&amp;start=27&amp;tbnid=kpwto-JKI95_qM:&amp;tbnh=127&amp;tbnw=127&amp;prev=/images?q=dishes&amp;gbv=2&amp;ndsp=18&amp;hl=en&amp;sa=N&amp;start=18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google.com/imgres?imgurl=http://www.bountyfishing.com/blog/images/robot-fish.jpg&amp;imgrefurl=http://www.bountyfishing.com/blog/2007/08/07/27-aquatic-lifeforms-you-never-caught-while-fishing/&amp;usg=__Z_E8-qAq_STySt2fMvKgmOHoXcs=&amp;h=332&amp;w=461&amp;sz=20&amp;hl=en&amp;start=2&amp;tbnid=wy7J9Gnpyder5M:&amp;tbnh=92&amp;tbnw=128&amp;prev=/images?q=fish&amp;gbv=2&amp;hl=en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com/imgres?imgurl=http://lh5.ggpht.com/_dlkAw43cLC0/ST_oZx2mq6I/AAAAAAAABWk/yz5HAcvddrM/s800/10-most-poisonous-animals-in-the-world-puffer-fish.jpg&amp;imgrefurl=http://villageofjoy.com/10-most-poisonous-animals-in-the-world/&amp;usg=__ASUK8-IT0gIA6oZYslzE8rMuMPw=&amp;h=481&amp;w=560&amp;sz=92&amp;hl=en&amp;start=15&amp;tbnid=_6Cf5ZI5fbuOxM:&amp;tbnh=114&amp;tbnw=133&amp;prev=/images?q=fish&amp;gbv=2&amp;hl=en" TargetMode="External"/><Relationship Id="rId10" Type="http://schemas.openxmlformats.org/officeDocument/2006/relationships/image" Target="../media/image27.jpeg"/><Relationship Id="rId11" Type="http://schemas.openxmlformats.org/officeDocument/2006/relationships/hyperlink" Target="http://images.google.com/imgres?imgurl=http://sciencecastle.com/sc/app/webroot/img/articles/34.jpg&amp;imgrefurl=http://sciencecastle.com/sc/index.php/articles/view/34&amp;usg=__DuqvFJFTfoKWBb9EfrgcK4ld4gM=&amp;h=500&amp;w=750&amp;sz=36&amp;hl=en&amp;start=3&amp;tbnid=iF41ygiQ2HxseM:&amp;tbnh=94&amp;tbnw=141&amp;prev=/images?q=clown+fish&amp;gbv=2&amp;ndsp=18&amp;hl=en&amp;sa=N" TargetMode="External"/><Relationship Id="rId12" Type="http://schemas.openxmlformats.org/officeDocument/2006/relationships/image" Target="../media/image28.jpeg"/><Relationship Id="rId13" Type="http://schemas.openxmlformats.org/officeDocument/2006/relationships/hyperlink" Target="http://images.google.com/imgres?imgurl=http://www.senia.com/wp-content/uploads/2009/01/swish.jpg&amp;imgrefurl=http://www.senia.com/2009/01/&amp;usg=__5e3phmvisJqMLVZFkS20G-LMIlQ=&amp;h=400&amp;w=288&amp;sz=22&amp;hl=en&amp;start=24&amp;tbnid=CMiFK6dK6EDD6M:&amp;tbnh=124&amp;tbnw=89&amp;prev=/images?q=swish&amp;gbv=2&amp;ndsp=18&amp;hl=en&amp;sa=N&amp;start=18" TargetMode="External"/><Relationship Id="rId14" Type="http://schemas.openxmlformats.org/officeDocument/2006/relationships/image" Target="../media/image29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1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2.xml"/><Relationship Id="rId3" Type="http://schemas.openxmlformats.org/officeDocument/2006/relationships/slide" Target="slide96.xml"/><Relationship Id="rId4" Type="http://schemas.openxmlformats.org/officeDocument/2006/relationships/slide" Target="slide138.xml"/><Relationship Id="rId5" Type="http://schemas.openxmlformats.org/officeDocument/2006/relationships/slide" Target="slide164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bikes.msu.edu/images/motor-pool-station.jpg&amp;imgrefurl=http://www.bikes.msu.edu/local_cycling/air.html&amp;usg=__zNpsM8LuI-3Nk4GQqjsfGaim0jw=&amp;h=768&amp;w=1024&amp;sz=196&amp;hl=EN&amp;start=17&amp;tbnid=8ITJFVRUdaYZYM:&amp;tbnh=113&amp;tbnw=150&amp;prev=/images?q=station&amp;gbv=2&amp;hl=EN&amp;sa=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om/imgres?imgurl=http://www.moscowfire.com/images/assets/Station%25201.jpg&amp;imgrefurl=http://www.moscowfire.com/locations.php&amp;usg=__xdroF1l53vkAm95630A0brzTrt0=&amp;h=284&amp;w=432&amp;sz=28&amp;hl=EN&amp;start=24&amp;tbnid=gtaMKQbncXV4bM:&amp;tbnh=83&amp;tbnw=126&amp;prev=/images?q=station&amp;start=20&amp;gbv=2&amp;ndsp=20&amp;hl=EN&amp;sa=N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om/imgres?imgurl=http://www.roadstothefuture.com/Metro_Center_Station.jpg&amp;imgrefurl=http://www.roadstothefuture.com/Int66_MetroViennaRte.html&amp;usg=__Y_OtpzjCP0l7yzW_5LoEZthWmSI=&amp;h=348&amp;w=496&amp;sz=59&amp;hl=EN&amp;start=33&amp;tbnid=r5LVXOw7CWmenM:&amp;tbnh=91&amp;tbnw=130&amp;prev=/images?q=station&amp;start=20&amp;gbv=2&amp;ndsp=20&amp;hl=EN&amp;sa=N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images.google.com/imgres?imgurl=http://img.timeinc.net/time/daily/2007/0706/space_station_0614.jpg&amp;imgrefurl=http://www.time.com/time/health/article/0,8599,1632890,00.html&amp;usg=__V0WhgaVgsM5s9RoqRYIPCf7Sgoo=&amp;h=460&amp;w=670&amp;sz=112&amp;hl=EN&amp;start=98&amp;tbnid=ZgjL0p1BjXm84M:&amp;tbnh=95&amp;tbnw=138&amp;prev=/images?q=station&amp;start=80&amp;gbv=2&amp;ndsp=20&amp;hl=EN&amp;sa=N" TargetMode="External"/><Relationship Id="rId9" Type="http://schemas.openxmlformats.org/officeDocument/2006/relationships/image" Target="../media/image33.jpeg"/><Relationship Id="rId10" Type="http://schemas.openxmlformats.org/officeDocument/2006/relationships/hyperlink" Target="http://images.google.com/imgres?imgurl=http://www.cityofvernon.org/images/departments/fire/fire_station4.jpg&amp;imgrefurl=http://www.cityofvernon.org/departments/fire/stations.htm&amp;usg=__2C7R5wZ5wjGWigag-UluoDVVK74=&amp;h=408&amp;w=640&amp;sz=29&amp;hl=EN&amp;start=108&amp;tbnid=0FKK4-JrAs27FM:&amp;tbnh=87&amp;tbnw=137&amp;prev=/images?q=station&amp;start=100&amp;gbv=2&amp;ndsp=20&amp;hl=EN&amp;sa=N" TargetMode="External"/><Relationship Id="rId11" Type="http://schemas.openxmlformats.org/officeDocument/2006/relationships/image" Target="../media/image34.jpeg"/><Relationship Id="rId12" Type="http://schemas.openxmlformats.org/officeDocument/2006/relationships/hyperlink" Target="http://images.google.com/imgres?imgurl=http://www.edinburgharchitecture.co.uk/jpgs/waverley_station_ramp05.jpg&amp;imgrefurl=http://www.edinburgharchitecture.co.uk/waverley_station_redevelopment.htm&amp;usg=__fwKAP7oAt_GZGurIyIpcH2AkhvA=&amp;h=480&amp;w=640&amp;sz=88&amp;hl=EN&amp;start=152&amp;tbnid=xD83jM-Zo3ieUM:&amp;tbnh=103&amp;tbnw=137&amp;prev=/images?q=station&amp;start=140&amp;gbv=2&amp;ndsp=20&amp;hl=EN&amp;sa=N" TargetMode="External"/><Relationship Id="rId13" Type="http://schemas.openxmlformats.org/officeDocument/2006/relationships/image" Target="../media/image35.jpeg"/><Relationship Id="rId14" Type="http://schemas.openxmlformats.org/officeDocument/2006/relationships/hyperlink" Target="http://images.google.com/imgres?imgurl=http://www.freefoto.com/images/1038/05/1038_05_25---Ironbridge-Power-Station--Shropshire_web.jpg&amp;imgrefurl=http://www.freefoto.com/preview/1038-05-25?ffid=1038-05-25&amp;usg=__OrJvLhOpNQ3hElUzGTFCDPOr-AA=&amp;h=400&amp;w=600&amp;sz=133&amp;hl=EN&amp;start=147&amp;tbnid=8Hov5HrhGdm9pM:&amp;tbnh=90&amp;tbnw=135&amp;prev=/images?q=station&amp;start=140&amp;gbv=2&amp;ndsp=20&amp;hl=EN&amp;sa=N" TargetMode="External"/><Relationship Id="rId15" Type="http://schemas.openxmlformats.org/officeDocument/2006/relationships/image" Target="../media/image36.jpeg"/><Relationship Id="rId16" Type="http://schemas.openxmlformats.org/officeDocument/2006/relationships/hyperlink" Target="http://images.google.com/imgres?imgurl=http://www.wmrs.edu/projects/weather%2520stations/OVL/GBUAPCD%2520station%2520at%2520OVL%2520closeup,%25201-10-07%2520small).jpg&amp;imgrefurl=http://www.wmrs.edu/projects/weather%2520stations/OVL/default.htm&amp;usg=__iJCJLLafu25e4PbOqgk1CexNRxg=&amp;h=324&amp;w=432&amp;sz=32&amp;hl=EN&amp;start=156&amp;tbnid=Xrmk11JNMUSYZM:&amp;tbnh=95&amp;tbnw=126&amp;prev=/images?q=station&amp;start=140&amp;gbv=2&amp;ndsp=20&amp;hl=EN&amp;sa=N" TargetMode="External"/><Relationship Id="rId17" Type="http://schemas.openxmlformats.org/officeDocument/2006/relationships/image" Target="../media/image37.jpeg"/><Relationship Id="rId18" Type="http://schemas.openxmlformats.org/officeDocument/2006/relationships/hyperlink" Target="http://images.google.com/imgres?imgurl=http://www.opkansas.org/_Assets/cm/media_photos/fire_station2.jpg&amp;imgrefurl=http://www.opkansas.org/Media_Room/Photos/artGallery.cfm?ImageNumber=149&amp;usg=__idcQyWdi7x9AkwM0Drus4MT8HVk=&amp;h=900&amp;w=1200&amp;sz=565&amp;hl=EN&amp;start=197&amp;tbnid=zGsKXPRpuPaLqM:&amp;tbnh=113&amp;tbnw=150&amp;prev=/images?q=station&amp;start=180&amp;gbv=2&amp;ndsp=20&amp;hl=EN&amp;sa=N" TargetMode="External"/><Relationship Id="rId19" Type="http://schemas.openxmlformats.org/officeDocument/2006/relationships/image" Target="../media/image38.jpeg"/><Relationship Id="rId20" Type="http://schemas.openxmlformats.org/officeDocument/2006/relationships/hyperlink" Target="http://images.google.com/imgres?imgurl=http://www.britsincancun.com/images/Cancun-Police-Station.jpg&amp;imgrefurl=http://www.britsincancun.com/accident.html&amp;usg=__HPr-4wKd4bZiiEhf1YyGDFbVffE=&amp;h=461&amp;w=614&amp;sz=59&amp;hl=EN&amp;start=2&amp;tbnid=ajD9rDHfSkDtAM:&amp;tbnh=102&amp;tbnw=136&amp;prev=/images?q=police+station&amp;gbv=2&amp;hl=EN" TargetMode="External"/><Relationship Id="rId21" Type="http://schemas.openxmlformats.org/officeDocument/2006/relationships/image" Target="../media/image39.jpeg"/><Relationship Id="rId2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campusmap.ualberta.ca/img_feature/tory.jpg&amp;imgrefurl=http://www.campusmap.ualberta.ca/index.cfm?campus=1&amp;sector=2&amp;feature=20&amp;usg=__7Tcqi2MVenJA2nP0nbJIp8aTTgg=&amp;h=312&amp;w=300&amp;sz=41&amp;hl=EN&amp;start=4&amp;tbnid=tjBted0Fkp2V0M:&amp;tbnh=117&amp;tbnw=113&amp;prev=/images?q=building&amp;gbv=2&amp;hl=EN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www.londondailypicture.com/images/august_2007/building.jpg&amp;imgrefurl=http://www.londondailypicture.com/category/buildings/&amp;usg=__4QkLZtLDV3aiexzQFd6It-phd-8=&amp;h=1707&amp;w=1280&amp;sz=386&amp;hl=EN&amp;start=20&amp;tbnid=ytOJwVkor2q0UM:&amp;tbnh=150&amp;tbnw=112&amp;prev=/images?q=building&amp;gbv=2&amp;hl=EN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images.google.com/imgres?imgurl=http://www.wwu.edu/depts/vpsa/resources/Campus_Svcs_Building.jpg&amp;imgrefurl=http://www.wwu.edu/depts/vpsa/campus_safety.shtml&amp;usg=__xUGs5TofZyfxpJl07OgqSsLNDoA=&amp;h=319&amp;w=425&amp;sz=52&amp;hl=EN&amp;start=87&amp;tbnid=HCxhcbMfZo6pzM:&amp;tbnh=95&amp;tbnw=126&amp;prev=/images?q=building&amp;start=80&amp;gbv=2&amp;ndsp=20&amp;hl=EN&amp;sa=N" TargetMode="External"/><Relationship Id="rId7" Type="http://schemas.openxmlformats.org/officeDocument/2006/relationships/image" Target="../media/image42.jpeg"/><Relationship Id="rId8" Type="http://schemas.openxmlformats.org/officeDocument/2006/relationships/hyperlink" Target="http://images.google.com/imgres?imgurl=http://www.cru.uea.ac.uk/cru/press/2006-08-naming/building.jpg&amp;imgrefurl=http://www.cru.uea.ac.uk/cru/press/2006-08-naming/&amp;usg=__bvsdOCxLJABtdAR0qMqgNLcWQPE=&amp;h=676&amp;w=1001&amp;sz=1004&amp;hl=EN&amp;start=96&amp;tbnid=g6vh1ks3_jTWfM:&amp;tbnh=101&amp;tbnw=149&amp;prev=/images?q=building&amp;start=80&amp;gbv=2&amp;ndsp=20&amp;hl=EN&amp;sa=N" TargetMode="External"/><Relationship Id="rId9" Type="http://schemas.openxmlformats.org/officeDocument/2006/relationships/image" Target="../media/image43.jpeg"/><Relationship Id="rId10" Type="http://schemas.openxmlformats.org/officeDocument/2006/relationships/hyperlink" Target="http://images.google.com/imgres?imgurl=http://img2.travelblog.org/Photos/1449/55726/f/316264-The-most-beautiful-building-in-the-world-0.jpg&amp;imgrefurl=http://www.travelblog.org/Photos/316264.html&amp;usg=__2fwxb9f6eJzo022WDNiMOweGtgI=&amp;h=400&amp;w=600&amp;sz=38&amp;hl=EN&amp;start=178&amp;tbnid=csAoiK4YTf-4rM:&amp;tbnh=90&amp;tbnw=135&amp;prev=/images?q=building&amp;start=160&amp;gbv=2&amp;ndsp=20&amp;hl=EN&amp;sa=N" TargetMode="External"/><Relationship Id="rId11" Type="http://schemas.openxmlformats.org/officeDocument/2006/relationships/image" Target="../media/image44.jpeg"/><Relationship Id="rId12" Type="http://schemas.openxmlformats.org/officeDocument/2006/relationships/hyperlink" Target="http://images.google.com/imgres?imgurl=http://app.mica.gov.sg/Data/0/About%2520MICA/MICA%2520Building/New/mita%2520building%2520exterior.jpg&amp;imgrefurl=http://app.mica.gov.sg/Default.aspx?tabid=64&amp;usg=__tp6qQZ7nr7uEwCgknhaL7dHVWSU=&amp;h=1535&amp;w=1353&amp;sz=1465&amp;hl=EN&amp;start=273&amp;tbnid=PA9kIndfz0HhMM:&amp;tbnh=150&amp;tbnw=132&amp;prev=/images?q=building&amp;start=260&amp;gbv=2&amp;ndsp=20&amp;hl=EN&amp;sa=N" TargetMode="External"/><Relationship Id="rId13" Type="http://schemas.openxmlformats.org/officeDocument/2006/relationships/image" Target="../media/image45.jpeg"/><Relationship Id="rId14" Type="http://schemas.openxmlformats.org/officeDocument/2006/relationships/hyperlink" Target="http://images.google.com/imgres?imgurl=http://www.hydeparkhistory.org/images/building.jpg&amp;imgrefurl=http://www.hydeparkhistory.org/building.html&amp;usg=__zeFXJAfRMUV87tdQSJfesJ4_TAQ=&amp;h=359&amp;w=500&amp;sz=27&amp;hl=EN&amp;start=302&amp;tbnid=5XWQASZ_Tdwf1M:&amp;tbnh=93&amp;tbnw=130&amp;prev=/images?q=building&amp;start=300&amp;gbv=2&amp;ndsp=20&amp;hl=EN&amp;sa=N" TargetMode="External"/><Relationship Id="rId15" Type="http://schemas.openxmlformats.org/officeDocument/2006/relationships/image" Target="../media/image46.jpeg"/><Relationship Id="rId16" Type="http://schemas.openxmlformats.org/officeDocument/2006/relationships/hyperlink" Target="http://images.google.com/imgres?imgurl=http://img.wallpaperstock.net:81/imposing-building-wallpapers_11824_1280x960.jpg&amp;imgrefurl=http://wallpaperstock.net/imposing-building-wallpapers_w11824.html&amp;usg=__qmMlzGEt2Y2a5M9uw5o5elOmDs4=&amp;h=960&amp;w=1280&amp;sz=450&amp;hl=EN&amp;start=316&amp;tbnid=3pLtJXaXzfqJ2M:&amp;tbnh=113&amp;tbnw=150&amp;prev=/images?q=building&amp;start=300&amp;gbv=2&amp;ndsp=20&amp;hl=EN&amp;sa=N" TargetMode="External"/><Relationship Id="rId17" Type="http://schemas.openxmlformats.org/officeDocument/2006/relationships/image" Target="../media/image47.jpeg"/><Relationship Id="rId18" Type="http://schemas.openxmlformats.org/officeDocument/2006/relationships/hyperlink" Target="http://images.google.com/imgres?imgurl=http://www.geog.ucl.ac.uk/images/pages/Pearson%2520Building%2520(main%2520entrance).jpg&amp;imgrefurl=http://www.geog.ucl.ac.uk/get_here/chandler_house.htm&amp;usg=__7dHujx2p_5K_c053KC1Qa9OXVrQ=&amp;h=475&amp;w=516&amp;sz=207&amp;hl=EN&amp;start=360&amp;tbnid=OVtMHFb5NYcXOM:&amp;tbnh=121&amp;tbnw=131&amp;prev=/images?q=building&amp;start=340&amp;gbv=2&amp;ndsp=20&amp;hl=EN&amp;sa=N" TargetMode="External"/><Relationship Id="rId19" Type="http://schemas.openxmlformats.org/officeDocument/2006/relationships/image" Target="../media/image48.jpeg"/><Relationship Id="rId20" Type="http://schemas.openxmlformats.org/officeDocument/2006/relationships/hyperlink" Target="http://images.google.com/imgres?imgurl=http://www.e-architect.co.uk/paris/jpgs/louvre_building_paris.jpg&amp;imgrefurl=http://www.e-architect.co.uk/paris_architecture.htm&amp;usg=__01yZvYp7IDrir6b_mPBkUO_vy-g=&amp;h=522&amp;w=622&amp;sz=54&amp;hl=EN&amp;start=380&amp;tbnid=CVjsWT-hgc1abM:&amp;tbnh=114&amp;tbnw=136&amp;prev=/images?q=building&amp;start=360&amp;gbv=2&amp;ndsp=20&amp;hl=EN&amp;sa=N" TargetMode="External"/><Relationship Id="rId21" Type="http://schemas.openxmlformats.org/officeDocument/2006/relationships/image" Target="../media/image49.jpeg"/><Relationship Id="rId2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princetonol.com/groups/iad/lessons/high/images/Christina-mask.jpg&amp;imgrefurl=http://www.princetonol.com/groups/iad/lessons/high/Stephanie-masks.htm&amp;usg=__HKEJOsujzWXHCbpVzVQr8zRJdPc=&amp;h=447&amp;w=450&amp;sz=41&amp;hl=EN&amp;start=1&amp;tbnid=UeySdjr9LlHWNM:&amp;tbnh=126&amp;tbnw=127&amp;prev=/images?q=masks&amp;gbv=2&amp;hl=EN" TargetMode="External"/><Relationship Id="rId3" Type="http://schemas.openxmlformats.org/officeDocument/2006/relationships/image" Target="../media/image50.jpeg"/><Relationship Id="rId4" Type="http://schemas.openxmlformats.org/officeDocument/2006/relationships/hyperlink" Target="http://images.google.com/imgres?imgurl=http://www.memoryelixir.com/TLN2002/images/masks.jpg&amp;imgrefurl=http://www.memoryelixir.com/TLN2002/partyfavors.html&amp;usg=__XA2tGCGrSHzLpSJOZ8BQlRlrJro=&amp;h=334&amp;w=400&amp;sz=58&amp;hl=EN&amp;start=4&amp;tbnid=pnzLOYg-SG6sFM:&amp;tbnh=104&amp;tbnw=124&amp;prev=/images?q=masks&amp;gbv=2&amp;hl=EN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images.google.com/imgres?imgurl=http://venetianmasks.us/images/murano_venetian_masks_502new.jpg&amp;imgrefurl=http://venetianmasks.us/&amp;usg=__t_dztiZzobfL0XHp6jCtIBD9m3s=&amp;h=565&amp;w=400&amp;sz=29&amp;hl=EN&amp;start=6&amp;tbnid=BFaLh_n4vbHKmM:&amp;tbnh=134&amp;tbnw=95&amp;prev=/images?q=masks&amp;gbv=2&amp;hl=EN" TargetMode="External"/><Relationship Id="rId7" Type="http://schemas.openxmlformats.org/officeDocument/2006/relationships/image" Target="../media/image52.jpeg"/><Relationship Id="rId8" Type="http://schemas.openxmlformats.org/officeDocument/2006/relationships/hyperlink" Target="http://images.google.com/imgres?imgurl=http://wingsofdreamsshop.com/wp-content/uploads/2007/01/totem-masks.JPG&amp;imgrefurl=http://wingsofdreamsshop.com/art/totem-masks/&amp;usg=__eH_spbBqs5euZgCxq0MWxMDJ2oU=&amp;h=960&amp;w=1280&amp;sz=332&amp;hl=EN&amp;start=9&amp;tbnid=9ZAtwgUwSVuVOM:&amp;tbnh=113&amp;tbnw=150&amp;prev=/images?q=masks&amp;gbv=2&amp;hl=EN" TargetMode="External"/><Relationship Id="rId9" Type="http://schemas.openxmlformats.org/officeDocument/2006/relationships/image" Target="../media/image53.jpeg"/><Relationship Id="rId10" Type="http://schemas.openxmlformats.org/officeDocument/2006/relationships/hyperlink" Target="http://images.google.com/imgres?imgurl=http://www.touregypt.net/featurestories/masks2.jpg&amp;imgrefurl=http://www.touregypt.net/featurestories/masks.htm&amp;usg=__5mBW7fmcSWyD0_22xPkIR_QNwsU=&amp;h=400&amp;w=300&amp;sz=28&amp;hl=EN&amp;start=14&amp;tbnid=Zg3yuWiniyd2NM:&amp;tbnh=124&amp;tbnw=93&amp;prev=/images?q=masks&amp;gbv=2&amp;hl=EN" TargetMode="External"/><Relationship Id="rId11" Type="http://schemas.openxmlformats.org/officeDocument/2006/relationships/image" Target="../media/image54.jpeg"/><Relationship Id="rId12" Type="http://schemas.openxmlformats.org/officeDocument/2006/relationships/hyperlink" Target="http://images.google.com/imgres?imgurl=http://www.geekalerts.com/u/spiderman-intercom-masks.jpg&amp;imgrefurl=http://www.geekalerts.com/tag/intercom/&amp;usg=__oWYJKD-03twCORKIK-9PYTK3HMY=&amp;h=372&amp;w=470&amp;sz=39&amp;hl=EN&amp;start=15&amp;tbnid=K7lun7xCs0NLJM:&amp;tbnh=102&amp;tbnw=129&amp;prev=/images?q=masks&amp;gbv=2&amp;hl=EN" TargetMode="External"/><Relationship Id="rId13" Type="http://schemas.openxmlformats.org/officeDocument/2006/relationships/image" Target="../media/image55.jpeg"/><Relationship Id="rId14" Type="http://schemas.openxmlformats.org/officeDocument/2006/relationships/hyperlink" Target="http://images.google.com/imgres?imgurl=http://lh5.ggpht.com/revdwperry/SEgy0tU-5WI/AAAAAAAAAlk/2g4eH4y-mxQ/masks%2520portrait%25202.jpg&amp;imgrefurl=http://davesdistrictblog.blogspot.com/2008/06/celtic-imagination-no-4.html&amp;usg=__jEQN2imOLW_U4-N02q6_Ri8LKxI=&amp;h=1600&amp;w=1150&amp;sz=593&amp;hl=EN&amp;start=93&amp;tbnid=n7uuvqD_sB8g5M:&amp;tbnh=150&amp;tbnw=108&amp;prev=/images?q=masks&amp;start=80&amp;gbv=2&amp;ndsp=20&amp;hl=EN&amp;sa=N" TargetMode="External"/><Relationship Id="rId15" Type="http://schemas.openxmlformats.org/officeDocument/2006/relationships/image" Target="../media/image56.jpeg"/><Relationship Id="rId16" Type="http://schemas.openxmlformats.org/officeDocument/2006/relationships/hyperlink" Target="http://images.google.com/imgres?imgurl=http://www.crizmac.com/images/products/masks_inca_head300.jpg&amp;imgrefurl=http://www.crizmac.com/online_catalog/store.cfm?step=display&amp;productid=2273&amp;usg=__GS9czIxoSI1cN62hzUrmwsXK-H0=&amp;h=577&amp;w=300&amp;sz=56&amp;hl=EN&amp;start=97&amp;tbnid=lXSba61mplwEJM:&amp;tbnh=134&amp;tbnw=70&amp;prev=/images?q=masks&amp;start=80&amp;gbv=2&amp;ndsp=20&amp;hl=EN&amp;sa=N" TargetMode="External"/><Relationship Id="rId17" Type="http://schemas.openxmlformats.org/officeDocument/2006/relationships/image" Target="../media/image57.jpeg"/><Relationship Id="rId18" Type="http://schemas.openxmlformats.org/officeDocument/2006/relationships/hyperlink" Target="http://images.google.com/imgres?imgurl=http://www.all4parties.co.uk/images_mardi_gras/mardi_gras_masks_card_lg.jpg&amp;imgrefurl=http://www.all4parties.co.uk/mardi_gras/masks_card.htm&amp;usg=__qRTsaV29oJV4VlA07d9FHLPI1qs=&amp;h=300&amp;w=301&amp;sz=30&amp;hl=EN&amp;start=112&amp;tbnid=OA5LrxiLBnFsWM:&amp;tbnh=116&amp;tbnw=116&amp;prev=/images?q=masks&amp;start=100&amp;gbv=2&amp;ndsp=20&amp;hl=EN&amp;sa=N" TargetMode="External"/><Relationship Id="rId19" Type="http://schemas.openxmlformats.org/officeDocument/2006/relationships/image" Target="../media/image58.jpeg"/><Relationship Id="rId20" Type="http://schemas.openxmlformats.org/officeDocument/2006/relationships/hyperlink" Target="http://images.google.com/imgres?imgurl=http://www.yourlittleparty.co.uk/ProdImages/jungle-masks-450w.jpg&amp;imgrefurl=http://www.yourlittleparty.co.uk/Scripts/prodView.asp?idProduct=219&amp;usg=__uV-g-Iv1TlO8_y9MkUF7KBNmRdk=&amp;h=293&amp;w=450&amp;sz=48&amp;hl=EN&amp;start=172&amp;tbnid=VZfmefiNmd7TvM:&amp;tbnh=83&amp;tbnw=127&amp;prev=/images?q=masks&amp;start=160&amp;gbv=2&amp;ndsp=20&amp;hl=EN&amp;sa=N" TargetMode="External"/><Relationship Id="rId21" Type="http://schemas.openxmlformats.org/officeDocument/2006/relationships/image" Target="../media/image59.jpeg"/><Relationship Id="rId22" Type="http://schemas.openxmlformats.org/officeDocument/2006/relationships/hyperlink" Target="http://images.google.com/imgres?imgurl=http://www.nolaimports.com/store/images/blank-masks.jpg&amp;imgrefurl=http://nolaimports.com/store/blank-ceramic-mardi-gras-mask-unfinished-unpainted-p-209.html&amp;usg=__o_K4yID92z2SQ92YzRegiJLxhQI=&amp;h=291&amp;w=258&amp;sz=66&amp;hl=EN&amp;start=173&amp;tbnid=8UMcVc0bVHh1dM:&amp;tbnh=115&amp;tbnw=102&amp;prev=/images?q=masks&amp;start=160&amp;gbv=2&amp;ndsp=20&amp;hl=EN&amp;sa=N" TargetMode="External"/><Relationship Id="rId23" Type="http://schemas.openxmlformats.org/officeDocument/2006/relationships/image" Target="../media/image60.jpeg"/><Relationship Id="rId24" Type="http://schemas.openxmlformats.org/officeDocument/2006/relationships/hyperlink" Target="http://images.google.com/imgres?imgurl=http://www.mart-aviation.co.uk/PQ_Masks.jpg&amp;imgrefurl=http://www.mart-aviation.co.uk/P%2520Masks.htm&amp;usg=__AHPBSxMbJYp5TktDEGj6Nv8nO1A=&amp;h=479&amp;w=606&amp;sz=53&amp;hl=EN&amp;start=180&amp;tbnid=u0Eo6feb43-GTM:&amp;tbnh=107&amp;tbnw=136&amp;prev=/images?q=masks&amp;start=160&amp;gbv=2&amp;ndsp=20&amp;hl=EN&amp;sa=N" TargetMode="External"/><Relationship Id="rId25" Type="http://schemas.openxmlformats.org/officeDocument/2006/relationships/image" Target="../media/image61.jpeg"/><Relationship Id="rId26" Type="http://schemas.openxmlformats.org/officeDocument/2006/relationships/hyperlink" Target="http://images.google.com/imgres?imgurl=http://my_sarisari_store.typepad.com/photos/uncategorized/masks_boac.jpg&amp;imgrefurl=http://my_sarisari_store.typepad.com/my_sarisari_store/2006/04/index.html&amp;usg=__hxLBENGsJuQQFGkPGdbtdWD9MC8=&amp;h=560&amp;w=377&amp;sz=89&amp;hl=EN&amp;start=225&amp;tbnid=mkje-aujenuUaM:&amp;tbnh=133&amp;tbnw=90&amp;prev=/images?q=masks&amp;start=220&amp;gbv=2&amp;ndsp=20&amp;hl=EN&amp;sa=N" TargetMode="External"/><Relationship Id="rId27" Type="http://schemas.openxmlformats.org/officeDocument/2006/relationships/image" Target="../media/image62.jpeg"/><Relationship Id="rId28" Type="http://schemas.openxmlformats.org/officeDocument/2006/relationships/hyperlink" Target="http://images.google.com/imgres?imgurl=http://www.cellartours.com/photo/venice-and-the-veneto/slides/venetian-masks-shop.jpg&amp;imgrefurl=http://www.cellartours.com/photo/venice-and-the-veneto/slides/venetian-masks-shop.html&amp;usg=__ExeHffz6KakND9OFwNFmDAuZ1KE=&amp;h=640&amp;w=480&amp;sz=287&amp;hl=EN&amp;start=232&amp;tbnid=Yb1pg2mtZVYFxM:&amp;tbnh=137&amp;tbnw=103&amp;prev=/images?q=masks&amp;start=220&amp;gbv=2&amp;ndsp=20&amp;hl=EN&amp;sa=N" TargetMode="External"/><Relationship Id="rId29" Type="http://schemas.openxmlformats.org/officeDocument/2006/relationships/image" Target="../media/image63.jpeg"/><Relationship Id="rId3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georgehart.com/BM06/man-burning.jpg&amp;imgrefurl=http://www.georgehart.com/BM06/Burning-Man-2006.html&amp;usg=__TKHjSu5LB1oiGyrxwjb7WEIzCY4=&amp;h=697&amp;w=493&amp;sz=44&amp;hl=EN&amp;start=4&amp;tbnid=XEFACa-dTIr-XM:&amp;tbnh=139&amp;tbnw=98&amp;prev=/images?q=burning&amp;gbv=2&amp;hl=EN" TargetMode="External"/><Relationship Id="rId3" Type="http://schemas.openxmlformats.org/officeDocument/2006/relationships/image" Target="../media/image64.jpeg"/><Relationship Id="rId4" Type="http://schemas.openxmlformats.org/officeDocument/2006/relationships/hyperlink" Target="http://images.google.com/imgres?imgurl=http://www.celebratebig.com/burning-man/burn/burning-man-temple-of-honor-burn.jpg&amp;imgrefurl=http://www.celebratebig.com/burning-man/burn/&amp;usg=__n17u1SyZh6rCobW9ffBWH3PH7Cs=&amp;h=450&amp;w=360&amp;sz=53&amp;hl=EN&amp;start=10&amp;tbnid=KSUcqPuQJrDprM:&amp;tbnh=127&amp;tbnw=102&amp;prev=/images?q=burning&amp;gbv=2&amp;hl=EN" TargetMode="External"/><Relationship Id="rId5" Type="http://schemas.openxmlformats.org/officeDocument/2006/relationships/image" Target="../media/image65.jpeg"/><Relationship Id="rId6" Type="http://schemas.openxmlformats.org/officeDocument/2006/relationships/hyperlink" Target="http://images.google.com/imgres?imgurl=http://www.celebratebig.com/burning-man/burn/burning-man-burn-celebration.jpg&amp;imgrefurl=http://www.celebratebig.com/burning-man/burn/&amp;usg=__GtDHnfLY75gAt_A9k2s1-xiWFTE=&amp;h=338&amp;w=450&amp;sz=39&amp;hl=EN&amp;start=12&amp;tbnid=TUfeuZxL8bH_BM:&amp;tbnh=95&amp;tbnw=127&amp;prev=/images?q=burning&amp;gbv=2&amp;hl=EN" TargetMode="External"/><Relationship Id="rId7" Type="http://schemas.openxmlformats.org/officeDocument/2006/relationships/image" Target="../media/image66.jpeg"/><Relationship Id="rId8" Type="http://schemas.openxmlformats.org/officeDocument/2006/relationships/hyperlink" Target="http://images.google.com/imgres?imgurl=http://www-esh.fnal.gov/ELM/Burning.jpg&amp;imgrefurl=http://www-esh.fnal.gov/ELM/Annual_Plan_CY_2000.htm&amp;usg=__x0KXjDLKW4O_wwQ9sPaGjLqyMro=&amp;h=504&amp;w=744&amp;sz=36&amp;hl=EN&amp;start=13&amp;tbnid=1zSWMt52HuCAkM:&amp;tbnh=96&amp;tbnw=141&amp;prev=/images?q=burning&amp;gbv=2&amp;hl=EN" TargetMode="External"/><Relationship Id="rId9" Type="http://schemas.openxmlformats.org/officeDocument/2006/relationships/image" Target="../media/image67.jpeg"/><Relationship Id="rId10" Type="http://schemas.openxmlformats.org/officeDocument/2006/relationships/hyperlink" Target="http://images.google.com/imgres?imgurl=http://www.photochart.com/data/media/5/Burning_Sky.jpg&amp;imgrefurl=http://www.photochart.com/search_photo_6345_Burning%2520Sky.html&amp;usg=__LYndGt766ogJIX6eaI2QksbUL6s=&amp;h=468&amp;w=700&amp;sz=340&amp;hl=EN&amp;start=23&amp;tbnid=O2Z5XuSTAwakrM:&amp;tbnh=94&amp;tbnw=140&amp;prev=/images?q=burning&amp;start=20&amp;gbv=2&amp;ndsp=20&amp;hl=EN&amp;sa=N" TargetMode="External"/><Relationship Id="rId11" Type="http://schemas.openxmlformats.org/officeDocument/2006/relationships/image" Target="../media/image68.jpeg"/><Relationship Id="rId12" Type="http://schemas.openxmlformats.org/officeDocument/2006/relationships/hyperlink" Target="http://images.google.com/imgres?imgurl=http://www.ehponline.org/docs/2007/115-1/fire.jpg&amp;imgrefurl=http://www.ehponline.org/docs/2007/115-1/forum.html&amp;usg=__WXeKPNITqtUXC9tJeilNWJ24rtM=&amp;h=331&amp;w=332&amp;sz=100&amp;hl=EN&amp;start=7&amp;tbnid=JiSQ1KKjPtIrgM:&amp;tbnh=119&amp;tbnw=119&amp;prev=/images?q=forest+fire&amp;gbv=2&amp;hl=EN" TargetMode="External"/><Relationship Id="rId13" Type="http://schemas.openxmlformats.org/officeDocument/2006/relationships/image" Target="../media/image69.jpeg"/><Relationship Id="rId14" Type="http://schemas.openxmlformats.org/officeDocument/2006/relationships/hyperlink" Target="http://images.google.com/imgres?imgurl=http://upload.wikimedia.org/wikipedia/commons/2/23/Bugaboo_forest_fire.jpg&amp;imgrefurl=http://commons.wikimedia.org/wiki/File:Bugaboo_forest_fire.jpg&amp;usg=__aIgM83Y8PSWg4KCZSlgtnRkwxLA=&amp;h=2000&amp;w=3008&amp;sz=1406&amp;hl=EN&amp;start=17&amp;tbnid=nNXVoqjS9AkUrM:&amp;tbnh=100&amp;tbnw=150&amp;prev=/images?q=forest+fire&amp;gbv=2&amp;hl=EN" TargetMode="External"/><Relationship Id="rId15" Type="http://schemas.openxmlformats.org/officeDocument/2006/relationships/image" Target="../media/image70.jpeg"/><Relationship Id="rId16" Type="http://schemas.openxmlformats.org/officeDocument/2006/relationships/hyperlink" Target="http://images.google.com/imgres?imgurl=http://www.co.berks.pa.us/etvfc19/lib/etvfc19/images/house_fire.jpg&amp;imgrefurl=http://www.co.berks.pa.us/etvfc19/cwp/view.asp?a=2348&amp;q=494812&amp;gisnavdltest=%257C33161%257C&amp;pp=12&amp;n=1&amp;usg=__9aEDEXhWrtyi1OfAWOemHLVmdhY=&amp;h=345&amp;w=460&amp;sz=76&amp;hl=EN&amp;start=2&amp;tbnid=DVmfF5T5zU_K-M:&amp;tbnh=96&amp;tbnw=128&amp;prev=/images?q=house+fire&amp;gbv=2&amp;hl=EN" TargetMode="External"/><Relationship Id="rId17" Type="http://schemas.openxmlformats.org/officeDocument/2006/relationships/image" Target="../media/image71.jpeg"/><Relationship Id="rId18" Type="http://schemas.openxmlformats.org/officeDocument/2006/relationships/hyperlink" Target="http://images.google.com/imgres?imgurl=http://www.ci.gulfport.fl.us/City_Departments/Public_Safety/Fire_Department/Fire_Department_Pictures/images/House_fire.jpg&amp;imgrefurl=http://www.ci.gulfport.fl.us/City_Departments/Public_Safety/Fire_Department/Fire_Department_Pictures/pages/House_Fire_JPG.htm&amp;usg=__vs-zwfDzm-1OpfTcEvBf1PlW1zo=&amp;h=720&amp;w=960&amp;sz=191&amp;hl=EN&amp;start=20&amp;tbnid=0rfJ6XqbeQwZyM:&amp;tbnh=111&amp;tbnw=148&amp;prev=/images?q=house+fire&amp;gbv=2&amp;hl=EN" TargetMode="External"/><Relationship Id="rId19" Type="http://schemas.openxmlformats.org/officeDocument/2006/relationships/image" Target="../media/image72.jpeg"/><Relationship Id="rId20" Type="http://schemas.openxmlformats.org/officeDocument/2006/relationships/hyperlink" Target="http://images.google.com/imgres?imgurl=http://www.station19.org/Images/Ave-12-HouseFire.jpg&amp;imgrefurl=http://www.station19.org/&amp;usg=__tveYdt8rD8_7G-D9DIWfVwiuVP4=&amp;h=432&amp;w=650&amp;sz=17&amp;hl=EN&amp;start=19&amp;tbnid=DolyKniZV3lSQM:&amp;tbnh=91&amp;tbnw=137&amp;prev=/images?q=house+fire&amp;gbv=2&amp;hl=EN" TargetMode="External"/><Relationship Id="rId21" Type="http://schemas.openxmlformats.org/officeDocument/2006/relationships/image" Target="../media/image73.jpeg"/><Relationship Id="rId22" Type="http://schemas.openxmlformats.org/officeDocument/2006/relationships/hyperlink" Target="http://images.google.com/imgres?imgurl=http://chpn.net/news/wp-content/uploads/2007/06/fire_on_clay.jpg&amp;imgrefurl=http://chpn.net/news/2007/06/22/house-fire-on-east-clay/&amp;usg=__uBBIfyEjNeYceNvMK1zYu6Bep-M=&amp;h=333&amp;w=500&amp;sz=144&amp;hl=EN&amp;start=23&amp;tbnid=aywZ1reqyYIN0M:&amp;tbnh=87&amp;tbnw=130&amp;prev=/images?q=house+fire&amp;start=20&amp;gbv=2&amp;ndsp=20&amp;hl=EN&amp;sa=N" TargetMode="External"/><Relationship Id="rId23" Type="http://schemas.openxmlformats.org/officeDocument/2006/relationships/image" Target="../media/image74.jpeg"/><Relationship Id="rId2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kenoshawater.org/images/hydrant1.jpg&amp;imgrefurl=http://www.kenoshawater.org/hydrantpainting.html&amp;usg=__rH8yvQFr0sNOBObUQzselgZiq7k=&amp;h=482&amp;w=299&amp;sz=63&amp;hl=EN&amp;start=2&amp;tbnid=KEDO7Z48hAj9mM:&amp;tbnh=129&amp;tbnw=80&amp;prev=/images?q=hydrant&amp;gbv=2&amp;hl=EN" TargetMode="External"/><Relationship Id="rId3" Type="http://schemas.openxmlformats.org/officeDocument/2006/relationships/image" Target="../media/image75.jpeg"/><Relationship Id="rId4" Type="http://schemas.openxmlformats.org/officeDocument/2006/relationships/hyperlink" Target="http://images.google.com/imgres?imgurl=http://www.chicagoclout.com/weblog/archives/Open%2520Fire%2520Hydrant.jpg&amp;imgrefurl=http://www.chicagoclout.com/weblog/archives/2007/07/&amp;usg=__fT4gnCNgcTvVZ_l0jJJKoNjErnQ=&amp;h=334&amp;w=500&amp;sz=133&amp;hl=EN&amp;start=9&amp;tbnid=gxwTyywpGNClLM:&amp;tbnh=87&amp;tbnw=130&amp;prev=/images?q=hydrant&amp;gbv=2&amp;hl=EN" TargetMode="External"/><Relationship Id="rId5" Type="http://schemas.openxmlformats.org/officeDocument/2006/relationships/image" Target="../media/image76.jpeg"/><Relationship Id="rId6" Type="http://schemas.openxmlformats.org/officeDocument/2006/relationships/hyperlink" Target="http://images.google.com/imgres?imgurl=http://newsimg.bbc.co.uk/media/images/41962000/jpg/_41962356_hydrant_andrea.jpg&amp;imgrefurl=http://news.bbc.co.uk/2/hi/in_pictures/5242072.stm&amp;usg=__X2-DvjVM7OafNe43KZcUOQy5f1M=&amp;h=300&amp;w=416&amp;sz=31&amp;hl=EN&amp;start=10&amp;tbnid=h8ZmKOrOFAQeJM:&amp;tbnh=90&amp;tbnw=125&amp;prev=/images?q=hydrant&amp;gbv=2&amp;hl=EN" TargetMode="External"/><Relationship Id="rId7" Type="http://schemas.openxmlformats.org/officeDocument/2006/relationships/image" Target="../media/image77.jpeg"/><Relationship Id="rId8" Type="http://schemas.openxmlformats.org/officeDocument/2006/relationships/hyperlink" Target="http://images.google.com/imgres?imgurl=http://img.alibaba.com/photo/50086533/Landing_Fire_Hydrant_and_Underground_Fire_Hydrant.jpg&amp;imgrefurl=http://tianguang.en.alibaba.com/product/50086533-50016069/Landing_Fire_Hydrant_and_Underground_Fire_Hydrant.html&amp;usg=__dyA0V1KjGirPUfJz0UHnpM0oXY0=&amp;h=360&amp;w=360&amp;sz=14&amp;hl=EN&amp;start=17&amp;tbnid=o51G4fF9X2RKZM:&amp;tbnh=121&amp;tbnw=121&amp;prev=/images?q=hydrant&amp;gbv=2&amp;hl=EN" TargetMode="External"/><Relationship Id="rId9" Type="http://schemas.openxmlformats.org/officeDocument/2006/relationships/image" Target="../media/image78.jpeg"/><Relationship Id="rId10" Type="http://schemas.openxmlformats.org/officeDocument/2006/relationships/hyperlink" Target="http://images.google.com/imgres?imgurl=http://www.fostercity.org/Services/safety/fire/uploaded_photos/ISO_hydrant_flow.jpg&amp;imgrefurl=http://www.fostercity.org/Services/safety/fire/Fire-Department-Photo-Gallery.cfm?PageNum_photo_gallery=9&amp;usg=__-z95_3bsHZ8y_HgCCaH1CwmKUeQ=&amp;h=525&amp;w=750&amp;sz=86&amp;hl=EN&amp;start=56&amp;tbnid=or3ohARFOG93EM:&amp;tbnh=99&amp;tbnw=141&amp;prev=/images?q=hydrant&amp;start=40&amp;gbv=2&amp;ndsp=20&amp;hl=EN&amp;sa=N" TargetMode="External"/><Relationship Id="rId11" Type="http://schemas.openxmlformats.org/officeDocument/2006/relationships/image" Target="../media/image79.jpeg"/><Relationship Id="rId12" Type="http://schemas.openxmlformats.org/officeDocument/2006/relationships/hyperlink" Target="http://images.google.com/imgres?imgurl=http://www.global-b2b-network.com/direct/dbimage/50130205/Hydrant.jpg&amp;imgrefurl=http://www.global-b2b-network.com/b2b/70/112/page5/fire_fighting.html&amp;usg=__4-zzuXOcifplX1bvZsNcrl9mfgk=&amp;h=360&amp;w=360&amp;sz=14&amp;hl=EN&amp;start=71&amp;tbnid=uc3-GfLmNYiBuM:&amp;tbnh=121&amp;tbnw=121&amp;prev=/images?q=hydrant&amp;start=60&amp;gbv=2&amp;ndsp=20&amp;hl=EN&amp;sa=N" TargetMode="External"/><Relationship Id="rId13" Type="http://schemas.openxmlformats.org/officeDocument/2006/relationships/image" Target="../media/image80.jpeg"/><Relationship Id="rId14" Type="http://schemas.openxmlformats.org/officeDocument/2006/relationships/hyperlink" Target="http://images.google.com/imgres?imgurl=http://www.offd-e93.com/hydrant%2520pics%2520005.jpg&amp;imgrefurl=http://www.offd-e93.com/&amp;usg=__pzJiNfb4jWb6d-J4DYG_GthPaq4=&amp;h=261&amp;w=448&amp;sz=30&amp;hl=EN&amp;start=77&amp;tbnid=YndkJX8OyS2xcM:&amp;tbnh=74&amp;tbnw=127&amp;prev=/images?q=hydrant&amp;start=60&amp;gbv=2&amp;ndsp=20&amp;hl=EN&amp;sa=N" TargetMode="External"/><Relationship Id="rId15" Type="http://schemas.openxmlformats.org/officeDocument/2006/relationships/image" Target="../media/image81.jpeg"/><Relationship Id="rId16" Type="http://schemas.openxmlformats.org/officeDocument/2006/relationships/hyperlink" Target="http://images.google.com/imgres?imgurl=http://www.aaamaverick.com/INSTALL%2520HYDRANT.JPG&amp;imgrefurl=http://www.aaamaverick.com/EXCAVATION.html&amp;usg=__OuQNf54odp6NRq-DzOfVzG39VD8=&amp;h=1728&amp;w=2304&amp;sz=977&amp;hl=EN&amp;start=88&amp;tbnid=EaqycdXn7LebiM:&amp;tbnh=113&amp;tbnw=150&amp;prev=/images?q=hydrant&amp;start=80&amp;gbv=2&amp;ndsp=20&amp;hl=EN&amp;sa=N" TargetMode="External"/><Relationship Id="rId17" Type="http://schemas.openxmlformats.org/officeDocument/2006/relationships/image" Target="../media/image82.jpeg"/><Relationship Id="rId18" Type="http://schemas.openxmlformats.org/officeDocument/2006/relationships/hyperlink" Target="http://images.google.com/imgres?imgurl=http://www.canada-photos.com/data/media/8/fire-hydrant_3534.jpg&amp;imgrefurl=http://www.canada-photos.com/fire-hydrant-picture-3534-pictures.htm&amp;usg=__EYPvfg5p7dUjCztM34wpgUJhOa0=&amp;h=350&amp;w=232&amp;sz=29&amp;hl=EN&amp;start=96&amp;tbnid=YnZIspC9s5kI4M:&amp;tbnh=120&amp;tbnw=80&amp;prev=/images?q=hydrant&amp;start=80&amp;gbv=2&amp;ndsp=20&amp;hl=EN&amp;sa=N" TargetMode="External"/><Relationship Id="rId19" Type="http://schemas.openxmlformats.org/officeDocument/2006/relationships/image" Target="../media/image83.jpeg"/><Relationship Id="rId20" Type="http://schemas.openxmlformats.org/officeDocument/2006/relationships/hyperlink" Target="http://images.google.com/imgres?imgurl=http://www.twincitiesdailyphoto.com/2007/fire_hydrant-01.jpg&amp;imgrefurl=http://www.twincitiesdailyphoto.com/2007/08/dog-catcher.html&amp;usg=__KV5xSiADIYmao_3r-Ma9rCoMPD4=&amp;h=819&amp;w=1024&amp;sz=755&amp;hl=EN&amp;start=102&amp;tbnid=YGpKJhweNoQB1M:&amp;tbnh=120&amp;tbnw=150&amp;prev=/images?q=hydrant&amp;start=100&amp;gbv=2&amp;ndsp=20&amp;hl=EN&amp;sa=N" TargetMode="External"/><Relationship Id="rId21" Type="http://schemas.openxmlformats.org/officeDocument/2006/relationships/image" Target="../media/image84.jpeg"/><Relationship Id="rId2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fireandrescue.marionbody.com/user_images/HotD_Outriggers%2520(Small).jpg&amp;imgrefurl=http://fireandrescue.marionbody.com/?page_id=27&amp;usg=__d9jts_yAtWFVgtVIF3xhuHK7tKE=&amp;h=391&amp;w=396&amp;sz=113&amp;hl=EN&amp;start=5&amp;tbnid=4MdhLCwtU6L_ZM:&amp;tbnh=122&amp;tbnw=124&amp;prev=/images?q=outriggers&amp;gbv=2&amp;hl=EN" TargetMode="External"/><Relationship Id="rId3" Type="http://schemas.openxmlformats.org/officeDocument/2006/relationships/image" Target="../media/image85.jpeg"/><Relationship Id="rId4" Type="http://schemas.openxmlformats.org/officeDocument/2006/relationships/hyperlink" Target="http://images.google.com/imgres?imgurl=http://www.forumpictureprocessor.com/pictureprocessor/images/274sharp.jpg&amp;imgrefurl=http://www.hobiecat.com/community/viewtopic.php?t=1548&amp;usg=__Bo5znyhF1HVm5Mu-jwsm17cFPpw=&amp;h=338&amp;w=450&amp;sz=25&amp;hl=EN&amp;start=11&amp;tbnid=bjQ3-EnvdNhl-M:&amp;tbnh=95&amp;tbnw=127&amp;prev=/images?q=outriggers&amp;gbv=2&amp;hl=EN" TargetMode="External"/><Relationship Id="rId5" Type="http://schemas.openxmlformats.org/officeDocument/2006/relationships/image" Target="../media/image86.jpeg"/><Relationship Id="rId6" Type="http://schemas.openxmlformats.org/officeDocument/2006/relationships/hyperlink" Target="http://images.google.com/imgres?imgurl=http://www.thaifishingguide.com/images/equipment/saltwaterequipment/outrigger1.jpg&amp;imgrefurl=http://www.thaifishingguide.com/fishtechequip/equipment/saltwaterequipment/outrigger.html&amp;usg=__GitjHINWzPL4408ROLGSPkpsgO0=&amp;h=205&amp;w=350&amp;sz=97&amp;hl=EN&amp;start=12&amp;tbnid=Qd6SPhK2-yI7dM:&amp;tbnh=70&amp;tbnw=120&amp;prev=/images?q=outriggers&amp;gbv=2&amp;hl=EN" TargetMode="External"/><Relationship Id="rId7" Type="http://schemas.openxmlformats.org/officeDocument/2006/relationships/image" Target="../media/image87.jpeg"/><Relationship Id="rId8" Type="http://schemas.openxmlformats.org/officeDocument/2006/relationships/hyperlink" Target="http://images.google.com/imgres?imgurl=http://www.mtsmanufacturing.com/images/mobilesurveillance_4_big.jpg&amp;imgrefurl=http://www.mtsmanufacturing.com/projects/mobilesurveillance/index.html&amp;usg=__rZWtt79U73SwRH-wlmxhUeHizWM=&amp;h=525&amp;w=700&amp;sz=196&amp;hl=EN&amp;start=14&amp;tbnid=9V6WinbHAlkWSM:&amp;tbnh=105&amp;tbnw=140&amp;prev=/images?q=outriggers&amp;gbv=2&amp;hl=EN" TargetMode="External"/><Relationship Id="rId9" Type="http://schemas.openxmlformats.org/officeDocument/2006/relationships/image" Target="../media/image88.jpeg"/><Relationship Id="rId10" Type="http://schemas.openxmlformats.org/officeDocument/2006/relationships/hyperlink" Target="http://images.google.com/imgres?imgurl=http://www.worktruck-outfitters.com/images/crane-outriggers-stabilizers.jpg&amp;imgrefurl=http://www.worktruck-outfitters.com/cranes-c-89.html&amp;usg=__Tp19vStHXP9CuIzOjY55ggLy3yo=&amp;h=494&amp;w=453&amp;sz=26&amp;hl=EN&amp;start=25&amp;tbnid=8Ro4l1rSweFTvM:&amp;tbnh=130&amp;tbnw=119&amp;prev=/images?q=outriggers&amp;start=20&amp;gbv=2&amp;ndsp=20&amp;hl=EN&amp;sa=N" TargetMode="External"/><Relationship Id="rId11" Type="http://schemas.openxmlformats.org/officeDocument/2006/relationships/image" Target="../media/image89.jpeg"/><Relationship Id="rId12" Type="http://schemas.openxmlformats.org/officeDocument/2006/relationships/hyperlink" Target="http://images.google.com/imgres?imgurl=http://www.usa-lift.com/outriggers.jpg&amp;imgrefurl=http://www.usa-lift.com/gallery.html&amp;usg=__XIUw4I-8sYLJ7oIEoLQFOyFfAr0=&amp;h=564&amp;w=397&amp;sz=29&amp;hl=EN&amp;start=34&amp;tbnid=RkxtGJg35xxVfM:&amp;tbnh=134&amp;tbnw=94&amp;prev=/images?q=outriggers&amp;start=20&amp;gbv=2&amp;ndsp=20&amp;hl=EN&amp;sa=N" TargetMode="External"/><Relationship Id="rId13" Type="http://schemas.openxmlformats.org/officeDocument/2006/relationships/image" Target="../media/image90.jpeg"/><Relationship Id="rId14" Type="http://schemas.openxmlformats.org/officeDocument/2006/relationships/hyperlink" Target="http://images.google.com/imgres?imgurl=http://static.howstuffworks.com/gif/fire-engine-outrigger.jpg&amp;imgrefurl=http://science.howstuffworks.com/fire-engine.htm/printable&amp;usg=__5vEdNReYIortCj2_kOc835BRw-c=&amp;h=533&amp;w=400&amp;sz=25&amp;hl=EN&amp;start=1&amp;tbnid=P75SCbwWxsQWZM:&amp;tbnh=132&amp;tbnw=99&amp;prev=/images?q=fire+engine+outriggers&amp;gbv=2&amp;hl=EN&amp;sa=G" TargetMode="External"/><Relationship Id="rId15" Type="http://schemas.openxmlformats.org/officeDocument/2006/relationships/image" Target="../media/image91.jpeg"/><Relationship Id="rId16" Type="http://schemas.openxmlformats.org/officeDocument/2006/relationships/hyperlink" Target="http://images.google.com/imgres?imgurl=http://www.xmrfire.org/knt/Public%2520Images/Outriggers.jpg&amp;imgrefurl=http://www.xmrfire.org/knt/Public%2520Images/Forms/AllItems.aspx&amp;usg=__VGgN1bE4xxkGzNQKnEYMN9sHFYs=&amp;h=480&amp;w=640&amp;sz=46&amp;hl=EN&amp;start=10&amp;tbnid=riljGHYPB5a9qM:&amp;tbnh=103&amp;tbnw=137&amp;prev=/images?q=fire+engine+outriggers&amp;gbv=2&amp;hl=EN&amp;sa=G" TargetMode="External"/><Relationship Id="rId17" Type="http://schemas.openxmlformats.org/officeDocument/2006/relationships/image" Target="../media/image92.jpeg"/><Relationship Id="rId18" Type="http://schemas.openxmlformats.org/officeDocument/2006/relationships/hyperlink" Target="http://images.google.com/imgres?imgurl=http://www.adorablekidsdressup.com/Cloud%2520Nine%2520Images/Bruder_Trucks/Bruder_Fire_Engine.jpg&amp;imgrefurl=http://www.adorablekidsdressup.com/Cloud_Nine_Toys/Bruder_Trucks.htm&amp;usg=__I564jORpqPYA5WhvE5MW9MZVhMQ=&amp;h=386&amp;w=300&amp;sz=27&amp;hl=EN&amp;start=4&amp;tbnid=CFQxERB7c-db2M:&amp;tbnh=123&amp;tbnw=96&amp;prev=/images?q=fire+engine+outriggers&amp;gbv=2&amp;ndsp=20&amp;hl=EN&amp;sa=N" TargetMode="External"/><Relationship Id="rId19" Type="http://schemas.openxmlformats.org/officeDocument/2006/relationships/image" Target="../media/image93.jpeg"/><Relationship Id="rId20" Type="http://schemas.openxmlformats.org/officeDocument/2006/relationships/hyperlink" Target="http://images.google.com/imgres?imgurl=http://www.sterlingfire.org/wp-content/images/q618_front_lift.jpg&amp;imgrefurl=http://www.sterlingfire.org/?cat=22&amp;usg=__-2BG3KPFeU8brQY8F7Zd0F1HkwI=&amp;h=960&amp;w=1280&amp;sz=222&amp;hl=EN&amp;start=20&amp;tbnid=i4cJKQFp8kNwhM:&amp;tbnh=113&amp;tbnw=150&amp;prev=/images?q=fire+engine+outriggers&amp;gbv=2&amp;ndsp=20&amp;hl=EN&amp;sa=N" TargetMode="External"/><Relationship Id="rId21" Type="http://schemas.openxmlformats.org/officeDocument/2006/relationships/image" Target="../media/image94.jpeg"/><Relationship Id="rId2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slide" Target="slide84.xml"/><Relationship Id="rId3" Type="http://schemas.openxmlformats.org/officeDocument/2006/relationships/slide" Target="slide85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Why is it important t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o a good job?</a:t>
            </a:r>
            <a:br>
              <a:rPr sz="36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lick to listen to story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24" descr="Firefight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2590920"/>
            <a:ext cx="2440080" cy="36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990720" y="2743200"/>
          <a:ext cx="6095880" cy="3346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Everybod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has a job to do.  Mine is teach.  Yours is to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Why is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lug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carry or pull something that is very heavy or clums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lease help m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suitcases up the stai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He will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garbage cans out to the stree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suppli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 - 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the things you need to do a particular job or activity, such as cleaning suppl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ll of the washing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on a shelf in the laundry roo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store sells many kinds of art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including paint and chal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   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</a:t>
            </a: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in Idea &amp; Supporting Detai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ext Stru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ui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ui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ic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ui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ic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covers a fac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covers a fac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mas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describes something that is on fir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describes something that is on fir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rn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zoo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1405080" y="2119320"/>
          <a:ext cx="6173640" cy="40766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zo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31" name="Picture 2" descr="http://t3.gstatic.com/images?q=tbn:vz3z3Y160E0Q1M:http://www.kookerkids.com/Coloring/halloween/images/boo_ghos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" descr="http://t3.gstatic.com/images?q=tbn:iA7z6NKCOEeQIM:http://www.srgc.org.uk/bulblog/log2005/010605/Highland%2520co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752480"/>
            <a:ext cx="1266840" cy="924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ttp://t2.gstatic.com/images?q=tbn:nJ3msH2hW2ld5M:http://www.ibiblio.org/jimmy/folkden/php/images/The_Coo_Co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1828800"/>
            <a:ext cx="905040" cy="1209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8" descr="http://t2.gstatic.com/images?q=tbn:UEHmE_5MonfraM:http://www.glasgowsciencecentre.org/cmsimages/crazy%2520goo%25203_1293_129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38080" y="426708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0" descr="http://t0.gstatic.com/images?q=tbn:ZvvQfcxQWDYj4M:http://farblog.files.wordpress.com/2009/07/moo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267080"/>
            <a:ext cx="1181160" cy="876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2" descr="http://t2.gstatic.com/images?q=tbn:CI-G_eCmMuJdNM:http://www.shoo.org/Pics/Logo-Hom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4267080"/>
            <a:ext cx="1181160" cy="9334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6" descr="http://t3.gstatic.com/images?q=tbn:tGwLa6JUefplqM:http://manoloshoeblog.com/images/shoo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62920" y="4191120"/>
            <a:ext cx="1076040" cy="1104840"/>
          </a:xfrm>
          <a:prstGeom prst="rect">
            <a:avLst/>
          </a:prstGeom>
          <a:ln w="0">
            <a:noFill/>
          </a:ln>
        </p:spPr>
      </p:pic>
      <p:sp>
        <p:nvSpPr>
          <p:cNvPr id="738" name="TextBox 24"/>
          <p:cNvSpPr/>
          <p:nvPr/>
        </p:nvSpPr>
        <p:spPr>
          <a:xfrm>
            <a:off x="1014480" y="31240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TextBox 25"/>
          <p:cNvSpPr/>
          <p:nvPr/>
        </p:nvSpPr>
        <p:spPr>
          <a:xfrm>
            <a:off x="3020040" y="28195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o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TextBox 26"/>
          <p:cNvSpPr/>
          <p:nvPr/>
        </p:nvSpPr>
        <p:spPr>
          <a:xfrm>
            <a:off x="5123160" y="31240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o c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1099800" y="525780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TextBox 28"/>
          <p:cNvSpPr/>
          <p:nvPr/>
        </p:nvSpPr>
        <p:spPr>
          <a:xfrm>
            <a:off x="3006360" y="52578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oo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6676560" y="5562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h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community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 – mun – i- 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people who live around you are your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pitched in to clean up the empty lo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ur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as a fitness cen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irthday party was held at 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en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:  Suffix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-l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suffix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means to do something in that 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udden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a loud noise makes him jum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f I look at the word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udden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, I see the root word sudden, and the suffix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Knowing the parts of a word helps me figure out what the word m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:  Suffix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-l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know that sudden means “unexpected.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suffix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means “in a certain way.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Knowing the root word and the suffix, I can figure out that the loud noise happened unexpected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fire Fighters use        many tul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Firefighters use many tool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they carries walkie-talki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They carry walkie-talkie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Firefighters need equipment to fight fires.  How do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the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use each piece of equipmen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riters use pronouns instead of repeating the same noun many tim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Using the same noun over and over can make sentences awkward or confus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ink about some of the things firefighters 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t helps firefighters get water onto the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h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y are very loud and let people know there’s a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ire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or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fire alar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in Id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we will read about other kinds of work firefighters d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dnes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066680" y="2590920"/>
          <a:ext cx="6096240" cy="3346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3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bout a job you would like to have and the responsibilities necessary for people to have it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533520" y="2438280"/>
          <a:ext cx="6933960" cy="43228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3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three firefighters.  They work hard to clean the fire station.  They work together to do a good job.  What jobs do you have at home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533520" y="2438280"/>
          <a:ext cx="6933960" cy="43228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3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we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will read about three firefighters. 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The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work hard to clean the fire station. 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The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work together to do a good job.  What jobs do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you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have at home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responsib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 – spon - si - 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one i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sponsi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that person must do a job or take charge of something that others are counting 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am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sponsi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teaching this clas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Jason i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sponsi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feeding his dog every d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Suffixes –ly, -ful, -er, -o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Fluenc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Pronoun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Main Ide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1371600" y="1371600"/>
          <a:ext cx="3454560" cy="520056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sponsibl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mwor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nstrument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taker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ug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plie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hmed,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Boab’s 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enjoy how peaceful it is when I am with my family around the ho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Once Uncle Howard was employed as an inspector at an oil compan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atch the gardener slowly pull the weeds out of the soi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like to listen to the sounds and noises of the sea on this wonderful voya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Now you must break the oyster shells in half and broil the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watch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990720" y="1828800"/>
          <a:ext cx="6173640" cy="44308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atc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78" name="Picture 2" descr="http://t1.gstatic.com/images?q=tbn:KqJ95C6NPPJEOM:http://gizmodo.com/assets/resources/2008/01/cookies_p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1361880" cy="1085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4" descr="http://t3.gstatic.com/images?q=tbn:si2H7-KfxWgTNM:http://www.rnnonline.org/photos/uncategorized/2007/09/23/dutton_football_cat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447920"/>
            <a:ext cx="877680" cy="1143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http://t0.gstatic.com/images?q=tbn:6S4cUW2Te7viVM:http://www.ftkltd.com/Pictures/Bow%2520Hatch%25200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276720"/>
            <a:ext cx="1047600" cy="8380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http://t2.gstatic.com/images?q=tbn:AOHmzeu1gwOPmM:http://www.feathersite.com/Poultry/PPGraphics/LtSusHatch3.JPE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3200400"/>
            <a:ext cx="1086120" cy="11048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" descr="http://t3.gstatic.com/images?q=tbn:lvVTU5_0QR4aTM:http://media-cdn.tripadvisor.com/media/photo-s/01/14/1a/39/faulty-door-latch-o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15238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2" descr="http://t3.gstatic.com/images?q=tbn:EZpbqVmkU2hB_M:http://www.bimboosoft.com/DMT/images/play1.jpg"/>
          <p:cNvPicPr/>
          <p:nvPr/>
        </p:nvPicPr>
        <p:blipFill>
          <a:blip r:embed="rId11"/>
          <a:stretch/>
        </p:blipFill>
        <p:spPr>
          <a:xfrm>
            <a:off x="4648320" y="312408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4" descr="http://t2.gstatic.com/images?q=tbn:vxAWZuaGKV1nrM:http://www.acus.org/files/images/match-burning.jpg"/>
          <p:cNvPicPr/>
          <p:nvPr/>
        </p:nvPicPr>
        <p:blipFill>
          <a:blip r:embed="rId12"/>
          <a:stretch/>
        </p:blipFill>
        <p:spPr>
          <a:xfrm>
            <a:off x="6858000" y="327672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6" descr="http://t1.gstatic.com/images?q=tbn:rM4NulHyI2bS4M:http://z.about.com/d/quilting/1/0/K/L/-/-/Michelle_16-patch.jpg"/>
          <p:cNvPicPr/>
          <p:nvPr/>
        </p:nvPicPr>
        <p:blipFill>
          <a:blip r:embed="rId13"/>
          <a:stretch/>
        </p:blipFill>
        <p:spPr>
          <a:xfrm>
            <a:off x="3048120" y="5105520"/>
            <a:ext cx="1104840" cy="10810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8" descr="http://t3.gstatic.com/images?q=tbn:iJav6wtWMP0d1M:http://www.turfgrass.ncsu.edu/Images/Diseases/largepatch/Web/large_patchZoysia2_ltc.jpg"/>
          <p:cNvPicPr/>
          <p:nvPr/>
        </p:nvPicPr>
        <p:blipFill>
          <a:blip r:embed="rId14"/>
          <a:stretch/>
        </p:blipFill>
        <p:spPr>
          <a:xfrm>
            <a:off x="5257800" y="50292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0" descr="http://t0.gstatic.com/images?q=tbn:e7LQXGPpd_C-9M:http://www.oklevis.com/images/levis-501-jeans/levis-501-jeans-7.jpg"/>
          <p:cNvPicPr/>
          <p:nvPr/>
        </p:nvPicPr>
        <p:blipFill>
          <a:blip r:embed="rId15"/>
          <a:stretch/>
        </p:blipFill>
        <p:spPr>
          <a:xfrm>
            <a:off x="990720" y="4952880"/>
            <a:ext cx="761760" cy="1266840"/>
          </a:xfrm>
          <a:prstGeom prst="rect">
            <a:avLst/>
          </a:prstGeom>
          <a:ln w="0">
            <a:noFill/>
          </a:ln>
        </p:spPr>
      </p:pic>
      <p:sp>
        <p:nvSpPr>
          <p:cNvPr id="788" name="TextBox 30"/>
          <p:cNvSpPr/>
          <p:nvPr/>
        </p:nvSpPr>
        <p:spPr>
          <a:xfrm>
            <a:off x="75060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TextBox 31"/>
          <p:cNvSpPr/>
          <p:nvPr/>
        </p:nvSpPr>
        <p:spPr>
          <a:xfrm>
            <a:off x="2823120" y="2666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TextBox 32"/>
          <p:cNvSpPr/>
          <p:nvPr/>
        </p:nvSpPr>
        <p:spPr>
          <a:xfrm>
            <a:off x="4867560" y="25146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990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2959560" y="434340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TextBox 35"/>
          <p:cNvSpPr/>
          <p:nvPr/>
        </p:nvSpPr>
        <p:spPr>
          <a:xfrm>
            <a:off x="4554000" y="41911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ennis m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TextBox 36"/>
          <p:cNvSpPr/>
          <p:nvPr/>
        </p:nvSpPr>
        <p:spPr>
          <a:xfrm>
            <a:off x="7153560" y="4267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TextBox 37"/>
          <p:cNvSpPr/>
          <p:nvPr/>
        </p:nvSpPr>
        <p:spPr>
          <a:xfrm>
            <a:off x="979200" y="62485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TextBox 38"/>
          <p:cNvSpPr/>
          <p:nvPr/>
        </p:nvSpPr>
        <p:spPr>
          <a:xfrm>
            <a:off x="2924280" y="62485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chwork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TextBox 39"/>
          <p:cNvSpPr/>
          <p:nvPr/>
        </p:nvSpPr>
        <p:spPr>
          <a:xfrm>
            <a:off x="5542560" y="61722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990720" y="838080"/>
          <a:ext cx="4495680" cy="5772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79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Fire Station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Verdana"/>
              </a:rPr>
              <a:t>Pages 174-17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teamwork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 – 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t i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wor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a group of people put a lot of effort into doing something togeth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and made money for uniforms by using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wor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wash c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need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wor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clean the garage in one d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bill and i went skateing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Bill and I went         skating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we am not verry gracefull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We are not very graceful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e103"/>
                </a:solidFill>
                <a:latin typeface="Arial Black"/>
              </a:rPr>
              <a:t>	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I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we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It had lots of cheese and sau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had lots of cheese and sau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I think you would have liked this trea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had lots of cheese and sau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think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you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would have liked this trea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ooking for the Main Id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hotograph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, such as those with news stories, can help you understand what you rea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hotographs, especially those taken on the scene of a news story, may contain details that aren’t very importa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6" descr="Sing with Me Big Book"/>
          <p:cNvPicPr/>
          <p:nvPr/>
        </p:nvPicPr>
        <p:blipFill>
          <a:blip r:embed="rId1"/>
          <a:srcRect l="0" t="0" r="0" b="8472"/>
          <a:stretch/>
        </p:blipFill>
        <p:spPr>
          <a:xfrm>
            <a:off x="762120" y="228600"/>
            <a:ext cx="50292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ooking for the Main Id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en you look at photographs, ask yourself, “What is the most important thing the photographer wanted to tell me?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ook at the pho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o or what is closest to the center of the photo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ooking for the Main Id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parts of the photo are cleare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s there any action taking plac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is the setting in the photograph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nswering these questions can help you tell the main idea of a photograp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king Connections:  Text to Sel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you will hear about a  boy who does a good job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2193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 paragraph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bout teamwork.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ida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762120" y="2209680"/>
          <a:ext cx="6476760" cy="415152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1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his week we read about responsible people in our community.  To do a good job, they use teamwork, instruments, and supplies.  Why is it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ida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762120" y="2209680"/>
          <a:ext cx="6476760" cy="415152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1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his week we read about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responsible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people in our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communit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To do a good job, they use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teamwork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, instruments, and supplies.  Why is it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Gloss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371600" y="1371600"/>
          <a:ext cx="3454560" cy="520056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sponsibl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mwor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nstrument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taker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ug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plie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actor spoke his lines quickly and quiet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y teacher said, “Today is a wonderful day!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om was cheerful when her supervisor spoke highly of h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painter gladly moved the paint can away from the lovely ru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990720" y="838080"/>
          <a:ext cx="4495680" cy="5772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79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quickly, joyful, painter, ac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do you know about reading these word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y have a base word and an e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day we’ll learn about ading suffixes </a:t>
            </a: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–ly, -ful, -er,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and -</a:t>
            </a: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o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to the end of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a word that has to do with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a word that has to do with fire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Each suffix has a special mea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-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n a ______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-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ull o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-er, -o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 person who 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se are things you wear on your face at a costume par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se are things you wear on your face at a costume part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mas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89154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wee have weekly fire  dril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We have weekly fire  drill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i thnk it is great idea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I think it is a great idea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5400" spc="-1" strike="noStrike">
                <a:solidFill>
                  <a:srgbClr val="ffe103"/>
                </a:solidFill>
                <a:latin typeface="Arial Black"/>
              </a:rPr>
              <a:t>	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loss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Glossaries give information about words.  It is found at the back of some book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You can use the glossary to learn the means of a word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rst, use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guide words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 find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entr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e if the word has more than one mea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loss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 figure out which is correct, try each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defini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unciation key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helps you know how to pronounce the word correct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large letters tell you to say that part of the word with more force than the other 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quick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his is a two-syllable word formed from the base word 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quick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and the suffix –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Chunk the word into its parts—the base word 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quick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and the suffix –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lend the chunks toge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What does it mean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in a quick w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Week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t’s Talk Abou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ponsi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ida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0666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 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bout a responsible person.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nline Gam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228600" y="1371600"/>
          <a:ext cx="5029200" cy="52578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Vocabulary &amp; Amaz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Spelling City: voc.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lling City: amaz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5410080" y="1371600"/>
          <a:ext cx="3581640" cy="52578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Spell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Quia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lling City: hf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TPlus Videos (password required)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7621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When I Grow Up I Want to Be a Firefighter (13:27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irefighters and Fire Safety for Kids (15:52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ound the Alarm: Firefighters at Work (16:00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ighborhoods: Understanding Where We Live (16:00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Link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10666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ct and Opinion Game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llinois Fire Safe Kids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he Kids Zon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fighting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mokey Bear.com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b17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8b17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Quiz # 90462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e1f08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3040" y="2589120"/>
            <a:ext cx="639792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b17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og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nline Gam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28600" y="1371600"/>
          <a:ext cx="5029200" cy="52578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5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Vocabulary &amp; Amaz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2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3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4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5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6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7"/>
                        </a:rPr>
                        <a:t>Spelling City: voc.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8"/>
                        </a:rPr>
                        <a:t>Spelling City: amaz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410080" y="1371600"/>
          <a:ext cx="3581640" cy="52578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Spell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9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0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1"/>
                        </a:rPr>
                        <a:t>Quia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2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3"/>
                        </a:rPr>
                        <a:t>Spelling City: hf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ading Suffix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, -er, -e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slow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help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fulle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quiet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anc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joyf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wonderf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visito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ave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acef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read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clear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close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edito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sof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You can spell words with suffixes by thinking about the base word and the suffix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base word and suffix make up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sweet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about these word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harm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wai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ac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gai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teacher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helper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hardly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tub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405080" y="2119320"/>
          <a:ext cx="6173640" cy="44308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cr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tub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Picture 2" descr="http://t2.gstatic.com/images?q=tbn:8nt6zlsXu5ppOM:http://www.nhj.k12.in.us/teachers/klesko/tiger%2520web/cu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447920"/>
            <a:ext cx="685800" cy="81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t0.gstatic.com/images?q=tbn:XxUk-KuDA07SIM:http://www.windowsnetworking.com/img/gifbasic/hub2sped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1523880"/>
            <a:ext cx="1266840" cy="771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http://t2.gstatic.com/images?q=tbn:zyCuGF61a8tVRM:http://www.jakesctp.com/images/WAGON%2520WHEELS/WOODEN%2520WAGON%2520WHEE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1523880"/>
            <a:ext cx="990360" cy="760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t0.gstatic.com/images?q=tbn:CtOAjYoC_RD8TM:http://www.trl.com/images/photos/PaintSolventRu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34290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http://t0.gstatic.com/images?q=tbn:DSiUhvlTFep0FM:http://www.blimpie.com/assets/images/menu/prod_su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62720" y="3505320"/>
            <a:ext cx="950760" cy="685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http://t2.gstatic.com/images?q=tbn:H54OC9czpfZiUM:http://blogs.knoxnews.com/knx/eder/VirgIllus.jpe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505320"/>
            <a:ext cx="1269720" cy="761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4" descr="http://t2.gstatic.com/images?q=tbn:Vue-VvfRgOqeiM:http://www.taxidermy4cash.com/chub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90920" y="5105520"/>
            <a:ext cx="1304640" cy="628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6" descr="http://t0.gstatic.com/images?q=tbn:FdLE57kVaF4BfM:http://www.amaranthlionsclub.com/lionlogo4c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648320" y="5029200"/>
            <a:ext cx="761760" cy="709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8" descr="http://t3.gstatic.com/images?q=tbn:AFeHZST521p5kM:http://www.nicerreflection.com/sitebuilder/images/bunch_golf_clubs-568x49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400800" y="4952880"/>
            <a:ext cx="914400" cy="798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0" descr="http://t3.gstatic.com/images?q=tbn:MpGDJyuc_69khM:http://www.ent.iastate.edu/images/coleoptera/scarabaeidae/white_grub_larva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62120" y="5029200"/>
            <a:ext cx="761760" cy="695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2" descr="http://t1.gstatic.com/images?q=tbn:Byn9ZT-DZMqgBM:http://www.supercoolpets.com/pictures/scrub%2520a%2520dub%2520dog%2520tub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209680" y="3352680"/>
            <a:ext cx="789120" cy="762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4" descr="http://t2.gstatic.com/images?q=tbn:YrZK1QQnicqkjM:http://www.das.hre.iowa.gov/benefits/benefit_images/cigarette%2520stub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8077320" y="5181480"/>
            <a:ext cx="428400" cy="6350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15"/>
          <p:cNvSpPr/>
          <p:nvPr/>
        </p:nvSpPr>
        <p:spPr>
          <a:xfrm>
            <a:off x="808200" y="2362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ub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TextBox 16"/>
          <p:cNvSpPr/>
          <p:nvPr/>
        </p:nvSpPr>
        <p:spPr>
          <a:xfrm>
            <a:off x="2764080" y="23623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TextBox 17"/>
          <p:cNvSpPr/>
          <p:nvPr/>
        </p:nvSpPr>
        <p:spPr>
          <a:xfrm>
            <a:off x="4601880" y="23623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TextBox 18"/>
          <p:cNvSpPr/>
          <p:nvPr/>
        </p:nvSpPr>
        <p:spPr>
          <a:xfrm>
            <a:off x="793440" y="4191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TextBox 19"/>
          <p:cNvSpPr/>
          <p:nvPr/>
        </p:nvSpPr>
        <p:spPr>
          <a:xfrm>
            <a:off x="2126880" y="419112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cr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1" name="Picture 26" descr="http://t1.gstatic.com/images?q=tbn:anoNG2GZw0vEsM:http://www.hospitalmanagement.net/contractor_images/first-choice/1-scrubs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657600" y="3352680"/>
            <a:ext cx="990720" cy="7444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1"/>
          <p:cNvSpPr/>
          <p:nvPr/>
        </p:nvSpPr>
        <p:spPr>
          <a:xfrm>
            <a:off x="5678280" y="42670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TextBox 22"/>
          <p:cNvSpPr/>
          <p:nvPr/>
        </p:nvSpPr>
        <p:spPr>
          <a:xfrm>
            <a:off x="7498080" y="43434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726480" y="57913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r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2792880" y="579132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h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TextBox 25"/>
          <p:cNvSpPr/>
          <p:nvPr/>
        </p:nvSpPr>
        <p:spPr>
          <a:xfrm>
            <a:off x="4699440" y="58672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l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TextBox 26"/>
          <p:cNvSpPr/>
          <p:nvPr/>
        </p:nvSpPr>
        <p:spPr>
          <a:xfrm>
            <a:off x="6130800" y="579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lf club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TextBox 27"/>
          <p:cNvSpPr/>
          <p:nvPr/>
        </p:nvSpPr>
        <p:spPr>
          <a:xfrm>
            <a:off x="8050320" y="586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t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TextBox 28"/>
          <p:cNvSpPr/>
          <p:nvPr/>
        </p:nvSpPr>
        <p:spPr>
          <a:xfrm>
            <a:off x="3666240" y="41911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crub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wax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405080" y="2119320"/>
          <a:ext cx="6173640" cy="40766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ax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3" name="Picture 2" descr="http://t0.gstatic.com/images?q=tbn:ou3I0v7YZO7xCM:http://www.top4office.com/product/brother-2920-fax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7524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http://t3.gstatic.com/images?q=tbn:vPlnlH3aZ0XA8M:http://www.jayeaston.com/galleries/sax_family/Quartet_by_Sa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828800"/>
            <a:ext cx="1181160" cy="1123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http://t3.gstatic.com/images?q=tbn:_ylvlsRLXawIWM:http://www.classactfabrics.com/newsletters/Alverna%2520L,%2520flax%2520stems,%2520line,%2520threa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572000"/>
            <a:ext cx="1428840" cy="914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http://t2.gstatic.com/images?q=tbn:zpYS3KuKxoCwQM:http://www.thenourishinggourmet.com/wp-content/uploads/2009/03/ng_flax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81480" y="4648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2"/>
          <p:cNvSpPr/>
          <p:nvPr/>
        </p:nvSpPr>
        <p:spPr>
          <a:xfrm>
            <a:off x="950040" y="29718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ax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TextBox 33"/>
          <p:cNvSpPr/>
          <p:nvPr/>
        </p:nvSpPr>
        <p:spPr>
          <a:xfrm>
            <a:off x="3834000" y="31240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ax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axaphon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TextBox 34"/>
          <p:cNvSpPr/>
          <p:nvPr/>
        </p:nvSpPr>
        <p:spPr>
          <a:xfrm>
            <a:off x="2874960" y="5638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lax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TextBox 35"/>
          <p:cNvSpPr/>
          <p:nvPr/>
        </p:nvSpPr>
        <p:spPr>
          <a:xfrm>
            <a:off x="49528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lax seed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1" name="Picture 10" descr="http://t3.gstatic.com/images?q=tbn:DcCTwLcsXNN0_M:http://i21.ebayimg.com/02/i/06/ac/a1/19_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8320" y="1905120"/>
            <a:ext cx="13525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71600" y="1371600"/>
          <a:ext cx="3454560" cy="520056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sponsibl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mwor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nstrument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taker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ug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plie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in Ideas and Detai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member Helen Keller and the Big Storm?  What was the main idea of the sto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hen would it be helpful to be able to tell the main idea of a sto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in Ideas and Detai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topic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of a story is what the story is abou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topic can be said in one or two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main idea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s the most important idea about the topi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maller facts make up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detail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xt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The way in which a selection is organized is called th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text structure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Sometimes a selection can be written in the order that things happen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The main idea can be given at the beginning, middle, or end of the selec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9" name="Picture 6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i witsh i saw the fire truck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I wish I saw the fire truck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those trucks is re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Those trucks are red.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3"/>
                </a:solidFill>
                <a:latin typeface="Arial Black"/>
              </a:rPr>
              <a:t> 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Rosa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doctor. 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Sh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elps peop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Sh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takes the place of the noun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Rosa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Da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Mari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nurses. 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elp people 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takes the place of the noun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Da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Mari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69608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hoose the pronoun that can take the place of the underlined word or word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Use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or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Sue Kresk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talks to the children at scho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Verdana"/>
                <a:ea typeface="Arial"/>
              </a:rPr>
              <a:t>She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talks to the children at scho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The children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listen to the police offic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Verdana"/>
                <a:ea typeface="Arial"/>
              </a:rPr>
              <a:t>The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listen to the police offic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Juan and I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want to be police offic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Verdana"/>
                <a:ea typeface="Arial"/>
              </a:rPr>
              <a:t>We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want to be police offic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69608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hoose the pronoun that can take the place of the underlined word or word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Use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or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Jua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sks Officer Kresky many ques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sks Officer Kresky many ques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da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the dream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will come tr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day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it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will come tr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these sentences have a pronou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refighters work ha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y rescue people and put out fir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want to be a firefigh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Bob wants to be a firefighter 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90720" y="838080"/>
          <a:ext cx="4495680" cy="5772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79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–ly, -ful, -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in Id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we will read about a day at a fire st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066680" y="25909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 people who do jobs for the community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219320" y="2590920"/>
          <a:ext cx="6095880" cy="3760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helpful firefighters.  They work calmly and quickly.  How hard is a firefighter’s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19320" y="2590920"/>
          <a:ext cx="6095880" cy="3760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</a:t>
                      </a:r>
                      <a:r>
                        <a:rPr b="0" i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elpful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firefighters.  They work </a:t>
                      </a:r>
                      <a:r>
                        <a:rPr b="0" i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alml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and </a:t>
                      </a:r>
                      <a:r>
                        <a:rPr b="0" i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quickl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How hard is a firefighter’s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you will learn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–ly, -ful. –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oper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 - er - a - 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a doctor or vet opens the body to fix something, it is call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era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dog ha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era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fix her ea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ha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era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repair a broken le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instrumen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 – stru - 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ny tool used by doctors and vets to help them examine a patient, to help them fix an injury, or to repair a part of the body is call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stru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doctor us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stru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alled a stethoscope to listen to my he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vet us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stru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see inside my dog’s 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caretaker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 – tak - 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tak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person, like a custodian or janitor, who makes sure that everything on the inside and outside of a building is clean and in working or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tak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ill fix the broken lock on the doo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sk 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tak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f he will clean the front windo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nimal Hospital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ove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You can read this word because you know how to read words with suffix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hat base word and suffix form lovel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faith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driv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redi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hen you come to a word with a suffix, look at the base word and suffix and blend the two word parts together to read 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wonder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c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ven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heer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garde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ain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ompeti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event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r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8" descr="On the Job"/>
          <p:cNvPicPr/>
          <p:nvPr/>
        </p:nvPicPr>
        <p:blipFill>
          <a:blip r:embed="rId1"/>
          <a:stretch/>
        </p:blipFill>
        <p:spPr>
          <a:xfrm>
            <a:off x="990720" y="152280"/>
            <a:ext cx="4572000" cy="64785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43240" y="3657240"/>
            <a:ext cx="29718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Arial Black"/>
              </a:rPr>
              <a:t>Find the words with suffix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br>
              <a:rPr sz="4400"/>
            </a:br>
            <a:r>
              <a:rPr b="0" lang="en-US" sz="2400" spc="-1" strike="noStrike">
                <a:solidFill>
                  <a:srgbClr val="ff3399"/>
                </a:solidFill>
                <a:latin typeface="Verdana"/>
              </a:rPr>
              <a:t>Pick out the words with these 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Verdana"/>
              </a:rPr>
              <a:t>suffixes in “On the Job.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eace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oud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refigh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ud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pervis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ank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20574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90720" y="3429000"/>
          <a:ext cx="7848360" cy="25750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866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vis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90720" y="3429000"/>
          <a:ext cx="7848360" cy="25750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866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d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vis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90720" y="3429000"/>
          <a:ext cx="7848360" cy="25750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866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ank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d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vis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gai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wish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405080" y="2119320"/>
          <a:ext cx="6173640" cy="40766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i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3" name="Picture 2" descr="http://t0.gstatic.com/images?q=tbn:-oK4b37a2abkkM:http://upload.wikimedia.org/wikipedia/commons/4/43/C-band_Radar-dish_Anten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193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http://t3.gstatic.com/images?q=tbn:6bZLKIPZ_8_fiM:http://www.laaudiofile.com/images/vip222_dis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6002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http://t1.gstatic.com/images?q=tbn:kpwto-JKI95_qM:http://www.farscapeweekly.com/weblog/uploaded_images/xmas_dishes-748768.jpg">
            <a:hlinkClick r:id="rId5"/>
          </p:cNvPr>
          <p:cNvPicPr/>
          <p:nvPr/>
        </p:nvPicPr>
        <p:blipFill>
          <a:blip r:embed="rId6"/>
          <a:srcRect l="-6280" t="12589" r="0" b="18125"/>
          <a:stretch/>
        </p:blipFill>
        <p:spPr>
          <a:xfrm>
            <a:off x="2286000" y="3429000"/>
            <a:ext cx="1285920" cy="8380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http://t1.gstatic.com/images?q=tbn:wy7J9Gnpyder5M:http://www.bountyfishing.com/blog/images/robot-fish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9880" y="4952880"/>
            <a:ext cx="1219320" cy="876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ttp://t3.gstatic.com/images?q=tbn:_6Cf5ZI5fbuOxM:http://lh5.ggpht.com/_dlkAw43cLC0/ST_oZx2mq6I/AAAAAAAABWk/yz5HAcvddrM/s800/10-most-poisonous-animals-in-the-world-puffer-fish.jpg">
            <a:hlinkClick r:id="rId9"/>
          </p:cNvPr>
          <p:cNvPicPr/>
          <p:nvPr/>
        </p:nvPicPr>
        <p:blipFill>
          <a:blip r:embed="rId10"/>
          <a:srcRect l="6024" t="7029" r="9776" b="15782"/>
          <a:stretch/>
        </p:blipFill>
        <p:spPr>
          <a:xfrm>
            <a:off x="6629400" y="4876920"/>
            <a:ext cx="1143000" cy="898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ttp://t1.gstatic.com/images?q=tbn:iF41ygiQ2HxseM:http://sciencecastle.com/sc/app/webroot/img/articles/34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90720" y="5029200"/>
            <a:ext cx="1342800" cy="895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http://t1.gstatic.com/images?q=tbn:CMiFK6dK6EDD6M:http://www.senia.com/wp-content/uploads/2009/01/swish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29200" y="2666880"/>
            <a:ext cx="847800" cy="11811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18"/>
          <p:cNvSpPr/>
          <p:nvPr/>
        </p:nvSpPr>
        <p:spPr>
          <a:xfrm>
            <a:off x="1660320" y="2666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atelite d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5016960" y="40384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TextBox 20"/>
          <p:cNvSpPr/>
          <p:nvPr/>
        </p:nvSpPr>
        <p:spPr>
          <a:xfrm>
            <a:off x="2514240" y="43434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ish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TextBox 21"/>
          <p:cNvSpPr/>
          <p:nvPr/>
        </p:nvSpPr>
        <p:spPr>
          <a:xfrm>
            <a:off x="952200" y="60199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lown f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TextBox 22"/>
          <p:cNvSpPr/>
          <p:nvPr/>
        </p:nvSpPr>
        <p:spPr>
          <a:xfrm>
            <a:off x="3827520" y="5943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bot f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6574680" y="58672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uffer f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br>
              <a:rPr sz="4400"/>
            </a:br>
            <a:r>
              <a:rPr b="0" i="1" lang="en-US" sz="2400" spc="-1" strike="noStrike">
                <a:solidFill>
                  <a:srgbClr val="af273e"/>
                </a:solidFill>
                <a:latin typeface="Verdana"/>
              </a:rPr>
              <a:t>Find the words with suffixe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My teacher has a weekly help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My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teache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as a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week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lpe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 like to skate slowly and look gracefu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 like to skate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slow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nd look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graceful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br>
              <a:rPr sz="4400"/>
            </a:br>
            <a:r>
              <a:rPr b="0" i="1" lang="en-US" sz="2400" spc="-1" strike="noStrike">
                <a:solidFill>
                  <a:srgbClr val="af273e"/>
                </a:solidFill>
                <a:latin typeface="Verdana"/>
              </a:rPr>
              <a:t>Find the words with suffixe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firefighter quickly put out the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firefighte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quick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put out the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He was a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cheerful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visito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990720" y="838080"/>
          <a:ext cx="4495680" cy="584676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1" action="ppaction://hlinksldjump"/>
              </a:rPr>
              <a:t>st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a building where a service takes pla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2" action="ppaction://hlinksldjump"/>
              </a:rPr>
              <a:t>build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a place with walls and a roo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roa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- a loud, deep noi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3" action="ppaction://hlinksldjump"/>
              </a:rPr>
              <a:t>mask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coverings for the fa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quick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in a fast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tight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fitting in a close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(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4" action="ppaction://hlinksldjump"/>
              </a:rPr>
              <a:t>next slid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ig Ques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y is it important t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a good job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s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6" name="Picture 5" descr="motor-pool-st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Station%252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447920"/>
            <a:ext cx="2286000" cy="1506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Metro_Center_Stati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1447920"/>
            <a:ext cx="2305080" cy="1612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7" descr="space_station_061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3200400"/>
            <a:ext cx="1847880" cy="12715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8"/>
          <p:cNvSpPr/>
          <p:nvPr/>
        </p:nvSpPr>
        <p:spPr>
          <a:xfrm>
            <a:off x="380880" y="14479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1" name="Picture 20" descr="fire_station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48520" y="4724280"/>
            <a:ext cx="2143080" cy="1362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waverley_station_ramp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05320" y="4597560"/>
            <a:ext cx="1981080" cy="14889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4" descr="1038_05_25---Ironbridge-Power-Station--Shropshire_web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320040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6" descr="GBUAPCD%2520station%2520at%2520OVL%2520closeup,%25201-10-07%2520small)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724280" y="320040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0" descr="fire_station2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85800" y="464832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2" descr="Cancun-Police-Station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819520" y="3124080"/>
            <a:ext cx="175248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buil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380880" y="14479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0" name="Picture 18" descr="to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581280"/>
            <a:ext cx="2430720" cy="2514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0" descr="build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14600" y="1447920"/>
            <a:ext cx="1763640" cy="2361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2" descr="Campus_Svcs_Build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1447920"/>
            <a:ext cx="1962360" cy="1479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4" descr="build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4724280"/>
            <a:ext cx="1981440" cy="13431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6" descr="316264-The-most-beautiful-building-in-the-world-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10280" y="4851360"/>
            <a:ext cx="1895760" cy="1263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8" descr="mita%2520building%2520exterio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14600" y="3962520"/>
            <a:ext cx="1860480" cy="2114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0" descr="buildin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0880" y="3200400"/>
            <a:ext cx="1981440" cy="1417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imposing-building-wallpapers_11824_1280x96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419720" y="1523880"/>
            <a:ext cx="2514600" cy="1895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6" descr="Pearson%2520Building%2520(main%2520entrance)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86600" y="3048120"/>
            <a:ext cx="1857240" cy="1716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8" descr="louvre_building_paris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086600" y="1447920"/>
            <a:ext cx="182880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mas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380880" y="14479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3" name="Picture 16" descr="Christina-mas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8" descr="mask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447920"/>
            <a:ext cx="1828800" cy="15332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0" descr="murano_venetian_masks_502ne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4267080"/>
            <a:ext cx="1282680" cy="18097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2" descr="totem-mask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162920" y="1447920"/>
            <a:ext cx="1733400" cy="1306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4" descr="masks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880" y="4267080"/>
            <a:ext cx="1400400" cy="18669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6" descr="spiderman-intercom-mask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0880" y="304812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8" descr="masks%2520portrait%2520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286000" y="4419720"/>
            <a:ext cx="1206360" cy="1676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0" descr="masks_inca_head30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038480" y="1447920"/>
            <a:ext cx="1354320" cy="2590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2" descr="mardi_gras_masks_card_l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16292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4" descr="jungle-masks-450w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981080" y="3124080"/>
            <a:ext cx="1828800" cy="11955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6" descr="blank-masks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867280" y="3505320"/>
            <a:ext cx="743040" cy="8380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0" descr="PQ_Masks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162920" y="289548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masks_boac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5715000" y="4495680"/>
            <a:ext cx="1063800" cy="1571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4" descr="venetian-masks-shop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638680" y="1447920"/>
            <a:ext cx="1317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bu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9" name="Picture 6" descr="man-burn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3581280"/>
            <a:ext cx="1128960" cy="1600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burning-man-temple-of-honor-bur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733920"/>
            <a:ext cx="1162080" cy="14475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0" descr="burning-man-burn-celebrati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3581280"/>
            <a:ext cx="1666800" cy="12463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2" descr="Burn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5176800"/>
            <a:ext cx="2133720" cy="14526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4" descr="Burning_Sk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880" y="3352680"/>
            <a:ext cx="2438640" cy="1636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6" descr="fir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58000" y="4876920"/>
            <a:ext cx="1743120" cy="1743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8" descr="Bugaboo_forest_fir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0880" y="16765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house_fir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32448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2" descr="House_fir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352680" y="16765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4" descr="Ave-12-HouseFir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743200" y="535932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6" descr="fire_on_clay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800600" y="5334120"/>
            <a:ext cx="19051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hydra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22" name="Picture 6" descr="hydrant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76400" y="1981080"/>
            <a:ext cx="1230480" cy="198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Open%2520Fire%2520Hydran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800600"/>
            <a:ext cx="1904760" cy="12747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0" descr="_41962356_hydrant_andre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3429000"/>
            <a:ext cx="1676520" cy="1206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2" descr="Landing_Fire_Hydrant_and_Underground_Fire_Hydrant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77120" y="1981080"/>
            <a:ext cx="1990440" cy="19908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ISO_hydrant_flow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4765680"/>
            <a:ext cx="1828800" cy="1284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6" descr="Hydran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553080" y="4114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hydrant%2520pics%252000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1981080"/>
            <a:ext cx="2133720" cy="1243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0" descr="INSTALL%2520HYDRANT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267080" y="1981080"/>
            <a:ext cx="1981440" cy="1494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2" descr="fire-hydrant_353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743200" y="40384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4" descr="fire_hydrant-01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648320" y="358128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outrigg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4" name="Picture 6" descr="HotD_Outriggers%2520(Small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905120"/>
            <a:ext cx="1447560" cy="14238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274shar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3581280"/>
            <a:ext cx="1676160" cy="12542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outrigger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43200" y="3371760"/>
            <a:ext cx="1676520" cy="9781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mobilesurveillance_4_bi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51814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4" descr="crane-outriggers-stabilizer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00760" y="4419720"/>
            <a:ext cx="1692360" cy="1847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6" descr="outrigger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90920" y="4572000"/>
            <a:ext cx="1162080" cy="16574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8" descr="fire-engine-outrigger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629240" y="19051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0" descr="Outrigger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590920" y="1905120"/>
            <a:ext cx="1828800" cy="13744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Bruder_Fire_Engin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05720" y="1905120"/>
            <a:ext cx="1846080" cy="2361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4" descr="q618_front_lift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114800" y="4419720"/>
            <a:ext cx="2438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1" action="ppaction://hlinksldjump"/>
              </a:rPr>
              <a:t>burn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hurting or harming someone or something by fi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fireproof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something made to resist burning easi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2" action="ppaction://hlinksldjump"/>
              </a:rPr>
              <a:t>hydrant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a metal structure connected to a water supply for use on fir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3" action="ppaction://hlinksldjump"/>
              </a:rPr>
              <a:t>outrigger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leg-like structures that hold a fire truck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bu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enoug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nal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1907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s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ad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ome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pec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times we can figure out a word’s meaning from word par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e many understand the two shorter words in a compound word (snowman, a man made of snow) or we can check to see if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,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-ed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, or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ave been added to a verb to change the ten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990720" y="2743200"/>
          <a:ext cx="6095880" cy="3346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verybody has a job to do.  Mine is teach.  Yours is to learn.  Why is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e can look in a dictionary or glossa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e can look for the suffixes in the unknown wo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oday we will learn more about using the suffix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s you read “A Trip to the Fire Station” look for word with an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t</a:t>
            </a: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he cherful boy worked quicklie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The cheerful boy worked quickly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where are the fir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Where is the fire?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103"/>
                </a:solidFill>
                <a:latin typeface="Arial Black"/>
              </a:rPr>
              <a:t>  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ry   -   s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is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David   -    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is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y might you want to use a pronoun instead of a nou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ext Stru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we will hear about two boys and the animals they hel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990720" y="2514600"/>
          <a:ext cx="6095880" cy="3297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bout a time when you have </a:t>
                      </a:r>
                      <a:br>
                        <a:rPr sz="3200"/>
                      </a:b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een firefighters at work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2209680"/>
          <a:ext cx="6324840" cy="43704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37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an animal doctor.  Animal doctors are responsible. They work hard to help our community.  They use teamwork to do a good job.  What else do they use to do their job?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838080" y="2209680"/>
          <a:ext cx="6324840" cy="43704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37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an animal doctor.  Animal doctors are </a:t>
                      </a:r>
                      <a:r>
                        <a:rPr b="0" i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responsible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They work hard to help our </a:t>
                      </a:r>
                      <a:r>
                        <a:rPr b="0" i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munity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They use </a:t>
                      </a:r>
                      <a:r>
                        <a:rPr b="0" i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eamwork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to do a good job.  What else do they use to do their job?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Vowel patterns for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</a:rPr>
              <a:t>/u/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ords with Suffix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</a:rPr>
              <a:t>–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2-07T01:25:18Z</dcterms:modified>
  <cp:revision>44</cp:revision>
  <dc:subject/>
  <dc:title>Slide 1</dc:title>
</cp:coreProperties>
</file>